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D0B8-0FFA-426D-AE5F-75B018FD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8EAB-0B1F-4391-A72C-D4B386B2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347-BB30-4684-A83D-6743BD81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8E19-73E8-4AE7-9171-4982F3C4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6CB-9D4A-41D1-B17B-29084C51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591-B48E-4A9C-A97D-94BF2E0B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390C-6158-4D0D-9DFD-A483628B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934A-4114-4CAC-983D-F37D0D45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345F-17F4-482D-BE8C-F1C4E4A3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179-C7F8-4F77-B0B4-FDA97370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DA7D-0EEB-4DA9-829E-955A4CC4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56D6-7353-41FD-AACA-44940C2A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8DC4-B26F-4DD1-BDC3-C21546A27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22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 в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0836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ция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0280" cy="39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511-9E10-424E-A6AB-970EE114B0F6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lab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зык для работы с матричными объ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ой объек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атр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 – это матрица размер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1x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матри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енно облегчает программ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ает запись формул краткой и нагляд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альнейшем изложении предполагается знакомство с матричной алгеброй и основами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D94-007B-4B5C-A4CC-BF1282B40A7F}" type="slidenum">
              <a:t>10</a:t>
            </a:fld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с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ой базовый тип для матр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анятся в формат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ouble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плавающей точ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вал приблизительно от 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-30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+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30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ные числа строятся с применением суффиксов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им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ица): 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.4e7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3.005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B7D-03DD-46E6-9713-4A77DAEA1A70}" type="slidenum">
              <a:t>11</a:t>
            </a:fld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угие ти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ивы структур (запис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ивы яче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воляют объединять в массиве элементы разной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7209-81A4-49A5-8550-119899DF8475}" type="slidenum">
              <a:t>12</a:t>
            </a:fld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еменные и вы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нные определяются пользователем при помощи оператора присваивания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евой части – имя пе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лавные и строчные буквы различ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авой части оператора присваивания может стоять выражение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=(2-x)/(x+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ражение встречается вне оператора присваивания, то его значение вычисляется и помещается в системную переменную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о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нную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s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использовать для задания новых выражений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z=ans*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оператор присваивания завершить символом «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то результат на экране не дублируется; в противном случае – выводится на экр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C845-7DF2-4BE7-9F94-0DF984F913FE}" type="slidenum">
              <a:t>13</a:t>
            </a:fld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23920" y="1995480"/>
            <a:ext cx="6896160" cy="286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E63-5B4C-4797-9CA4-C8EC910ABFF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ера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составлении выражений могут быть использованы операто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ч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н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^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едение в степ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оритет операций обычный. Изменяется при помощи круглых ско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C5B6-B4ED-4565-A8F6-34BEA1170836}" type="slidenum">
              <a:t>15</a:t>
            </a:fld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ерации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48320" y="2492280"/>
            <a:ext cx="4038480" cy="252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457200" y="1600200"/>
          <a:ext cx="4038480" cy="4565520"/>
        </p:xfrm>
        <a:graphic>
          <a:graphicData uri="http://schemas.openxmlformats.org/drawingml/2006/table">
            <a:tbl>
              <a:tblPr/>
              <a:tblGrid>
                <a:gridCol w="874800"/>
                <a:gridCol w="316368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ьш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ьше или равн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е или равн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н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~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равн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0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оритет ниже, чем у арифметических операц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B5A-8B2A-4288-BB84-CF73E8D5C07C}" type="slidenum">
              <a:t>16</a:t>
            </a:fld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огические оп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4038480" cy="4292640"/>
        </p:xfrm>
        <a:graphic>
          <a:graphicData uri="http://schemas.openxmlformats.org/drawingml/2006/table">
            <a:tbl>
              <a:tblPr/>
              <a:tblGrid>
                <a:gridCol w="874800"/>
                <a:gridCol w="3163680"/>
              </a:tblGrid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ложь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al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ина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ru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оритет ниже, чем у арифметических операций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операций отнош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08360" y="1628640"/>
            <a:ext cx="5111640" cy="187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844-82FE-4FAF-995F-7EE896AB89A5}" type="slidenum">
              <a:t>17</a:t>
            </a:fld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мандная ст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56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ейший способ взаимодействия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lab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в командной строке (в режиме калькулято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 начинается с приглашения: символ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щение по стеку ранее введённых команд – клавиш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↑ и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удобства размещения данных в КС можно разбивать вводимое выражение знаком «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чистить командное окно можно комадной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c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516720" y="1989000"/>
            <a:ext cx="1990800" cy="80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84720" y="4292640"/>
            <a:ext cx="2873520" cy="218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C4D-1A44-449F-A5A3-80B4F26353D5}" type="slidenum">
              <a:t>18</a:t>
            </a:fld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мандная ст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 КС упрощается благодаря окн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History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t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 хранится сессионная запись всех введённых кома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можно скопировать, выполнить и т. п. (см. контекстное мен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580000" y="1341360"/>
            <a:ext cx="2305080" cy="226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527800" y="3938760"/>
            <a:ext cx="2789280" cy="267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2A6-A03B-49D2-8F31-D7992297FB17}" type="slidenum">
              <a:t>19</a:t>
            </a:fld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la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rix LABoratory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ческие вы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алгорит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, обработка и визуализация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ная и инженер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ка приложений 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ромное количество прикладных пак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8223-9737-4675-9682-6B9B92A516A1}" type="slidenum">
              <a:t>2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чее пространств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Worksp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еременные хранятся в Р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й это отнимает много м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мотреть список существующих в РП переменных можно командой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43280" y="4076640"/>
            <a:ext cx="3219480" cy="15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F9E-0BEE-46A9-BDF0-B7F5593F13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чее пространств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Worksp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е подробную информацию о переменных РП можно вывести командой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11280" y="3429000"/>
            <a:ext cx="4038840" cy="188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AE95-F348-485B-BFBC-C66A909415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чее пространств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Worksp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закрытия сеанса работы MATLABа все переменные, вычисленные в течение сеанса, теряются. Однако их можно сохранить для последующего использования в иных сеансах, сохранив содержимое РП в файле на ди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ой меню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\ Save Workspace 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lab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4CF-C1F8-4067-AF38-2325EA717E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манд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a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яет все переменные в файл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lab.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a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яет все переменные в фай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a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y 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яет переме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, y, 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фай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можно по маске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a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y z -ASC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яет переме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, y, 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фай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кстовом ви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save('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name’,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',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','-ASCII'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ная форма вызова коман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метры – в виде строк (в одинарных апостроф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робнее про эту и любую другую команд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el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имя команды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BDA6-4B73-4B5E-A478-C855FAA58B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манд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ит для загрузки ранее сохранённы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жает все переменные из файл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lab.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жает все переменные из фай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y 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жает переме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, y, 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фай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ASC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y 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жает  переме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, y, 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екстового фай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('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name’,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',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','-ASCII'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ная форма вызова коман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A74C-8393-4063-8107-E29D61D1EB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манд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жит для удаления переменных из Р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l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аляет все пе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l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аляет всё, включая классы, функции, скомпилированные файлы и 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l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y 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аляет переменны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B5E3-F00F-4E3A-A0D6-B841E3816A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чий ката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файлы (данные, функции и пр.), созданные пользователем сохраняются в текущем каталог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urrent Direc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ить текущий каталог 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ндой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d &l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путь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роке вво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Director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анели инструмен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кн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Director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76360" y="3573360"/>
            <a:ext cx="5904000" cy="318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8560-6A54-430A-A86B-77257FFBDB3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хранение рабочей с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я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 текущей сессии (весь текстовый ввод и вывод) в фай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умолчанию – в файл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кущем катал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ary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ary(‘filename’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яют сессию в указанном фай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ary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f /  diary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, приостанавливают и продолжают ведение 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ar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ереключается между режимам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/off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лог уже ведё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4B70-FA78-4628-B852-64757281CD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кеты, встроенные в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lab Web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oinformatic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mmunication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ntrol System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atabase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istributed Computing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nancial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uzzy Logic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tic Algorithm and Direct Search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mage Processing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eural Network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artial Differential Equation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gnal Processing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ne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tatistic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ymbolic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irtual Reality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avelet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Simu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Aerospace Blocks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Communications Block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Video and Image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al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ime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lab Builder for 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lab 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грация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692360" y="115920"/>
            <a:ext cx="3600360" cy="504720"/>
            <a:chOff x="1692360" y="115920"/>
            <a:chExt cx="3600360" cy="504720"/>
          </a:xfrm>
        </p:grpSpPr>
        <p:sp>
          <p:nvSpPr>
            <p:cNvPr id="50" name=""/>
            <p:cNvSpPr/>
            <p:nvPr/>
          </p:nvSpPr>
          <p:spPr>
            <a:xfrm>
              <a:off x="1692360" y="115920"/>
              <a:ext cx="3600360" cy="50472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07920" y="189000"/>
              <a:ext cx="1348200" cy="368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Некотор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34C7-EECE-467B-8F9B-298A2B4A2E43}" type="slidenum">
              <a:t>3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lab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можно выдели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ять част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зы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вляемая граф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блиотека математических фу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ный интерфей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E81-C4C9-4BAD-939D-1D125F09C7E2}" type="slidenum">
              <a:t>4</a:t>
            </a:fld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зык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- и Паскаль-подобный объектно-ориентиров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ромный набор встроенных фу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ширяем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4956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EB52-FBF7-49D3-8995-BABC4F36645D}" type="slidenum">
              <a:t>5</a:t>
            </a:fld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ед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актив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вление переменными в рабочем простран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да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лад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51280" y="1600200"/>
            <a:ext cx="529272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7A4-84DD-41E3-AA26-4FD017F8314F}" type="slidenum">
              <a:t>6</a:t>
            </a:fld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769080" y="1989000"/>
            <a:ext cx="2374920" cy="1913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81760" y="3933720"/>
            <a:ext cx="2262240" cy="2737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427640" y="1484280"/>
            <a:ext cx="2376360" cy="1970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правляемая граф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высокого уровня для работы 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и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низкого уровня для работы с графи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356000" y="3573360"/>
            <a:ext cx="2376720" cy="187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44DD-728B-4043-A903-47AF41937859}" type="slidenum">
              <a:t>7</a:t>
            </a:fld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иблиотека математических функци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ширная коллекция вычислительных алгоритмов от  элементарных функций 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т. п.) до более слож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щение матр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ение собственных знач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нимизация фу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ференц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гр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034-7866-468E-A85B-EDB842B1F119}" type="slidenum">
              <a:t>8</a:t>
            </a:fld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граммный интерфейс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взаимодействия с программами  на языках Си и Фор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C424-A667-466C-87CB-BDE8354D4F0B}" type="slidenum">
              <a:t>9</a:t>
            </a:fld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7:10:22Z</dcterms:created>
  <dc:creator>Vadim Djenjer</dc:creator>
  <dc:description/>
  <dc:language>en-US</dc:language>
  <cp:lastModifiedBy>Vadim Djenjer</cp:lastModifiedBy>
  <dcterms:modified xsi:type="dcterms:W3CDTF">2007-03-12T18:59:55Z</dcterms:modified>
  <cp:revision>24</cp:revision>
  <dc:subject/>
  <dc:title>Введение в Matlab</dc:title>
</cp:coreProperties>
</file>