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950-D752-40A0-B130-46734E6A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9A4-6466-43A1-AEAF-668CFE88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E5B-55FD-4492-9EE1-B604BC34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9EB-AB85-4706-82DD-2AA30509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335-94A5-43A5-A9F4-1F47E569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33B-FE6B-45AA-A010-D99DCC62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ECC-11B9-4AC2-A39A-6C4CE463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52D-04D1-44BC-9F7C-BAAEF11C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E28-1745-41CA-B19A-65A2CDBA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6AE-E805-429A-AF9C-3336B6A8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31C-748C-4B77-89D1-53375760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B871-4D6F-44DC-A717-78823F10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38551E-A2A1-4F4C-9F1A-E6AD6DB1E476}" type="datetime10">
              <a:rPr b="0" lang="en-US" sz="1400" spc="-1" strike="noStrike">
                <a:solidFill>
                  <a:srgbClr val="000000"/>
                </a:solidFill>
                <a:latin typeface="Arial"/>
              </a:rPr>
              <a:t>14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6920-C164-46EC-BDD2-40A16B293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 для работы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массивами в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0836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0280" cy="39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рицы специального в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985080" cy="470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9E3-896B-4731-B54B-1CDC12E917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числения с элементами масси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ейшие операции над элементами массив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d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изведение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umsum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умулятивная сумма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umprod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умулятивное произведение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хождение максимально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хождение минимально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ртировка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6A2-7380-4032-A04B-2263F16A43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числения с элементами масси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работу некоторых из этих функций на примере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векторов эта функция возвращает сумму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массивов – сумму элементов по каждому из столбц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 – вектор-ст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альные функции работают по этому же принцип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E3E1-E2B2-40F1-B890-006A9774F9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числения с элементами масси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55640" y="1773360"/>
            <a:ext cx="7272000" cy="4103280"/>
            <a:chOff x="755640" y="1773360"/>
            <a:chExt cx="7272000" cy="410328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755640" y="1773360"/>
              <a:ext cx="3583080" cy="41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4799880" y="1857240"/>
              <a:ext cx="3227760" cy="333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44F0-34F0-4E42-B5E8-4490B412CC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числения с элементами масси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мулятивная сумма вычисляется так же, только происходит накопление вычисленных значений в элементах масси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595680" cy="456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026-92B2-460B-A790-6E4BA6B0FE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числения с элементами масси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ксимальный и минимальный эле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05440" y="1413000"/>
            <a:ext cx="3371760" cy="49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015-72DF-4F7F-B7C0-5049B95AAD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числения с элементами масси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ов функций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x/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двумя выходными параметрами позволяет определить и индекс найденного элеме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46680" y="1628640"/>
            <a:ext cx="363996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861-FC7A-400C-BA7A-482F1E9E4F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числения с элементами масси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ит сортировку элементов матрицы по столбц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030640" y="1557360"/>
            <a:ext cx="3375000" cy="47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466-907C-43B2-9E2B-77429809FF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ll(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истину, если все элементы векто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ны от нуля. Д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атриц выдаёт вектор-строку с аналогичным результатом для каждого столб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03840" y="1700280"/>
            <a:ext cx="3848040" cy="44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357-3F0C-4219-9E0C-658E2685D3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ny(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истину, если хотя бы один элемент векто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ен от нуля. Д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атриц выдаёт вектор-строку с аналогичным результатом для каждого столб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33840" y="1700280"/>
            <a:ext cx="4264200" cy="43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D52-8BD8-429A-856F-9711BBE0B4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здание матри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ециального ви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аботы с матрицами удобно пользоваться следующими фун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массива из еди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er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массива из н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y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единичной матр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массива из чисел, случайно распределённых 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0,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массива из чисел, нормально распределённых 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0,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g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магического квад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квадрата Паска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ональная матр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2EA-F76B-4187-BCA1-8FF1A2BC8E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078520" cy="532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A6E-FF0A-4400-A233-3BF36835A4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10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d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ределяет индексы элементов, удовлетворяющих заданному услов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4680000" cy="367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CE5-ECE6-41B2-BEAF-F6300969EA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применения команды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массив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67280" y="1197000"/>
            <a:ext cx="3214800" cy="50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7D1-D777-43F3-A1D0-89D619593D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тематические матричны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ычисление определителя квадратной матр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11520" y="1700280"/>
            <a:ext cx="4237200" cy="424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0DB-690C-4C4A-B1F5-3F22D9B97A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тричные и поэлементны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работе с матрицами можно использовать два вида операто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атричны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оизводят действия по правилам матричной алгеб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элементны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оизводят действия над соответствующими элементами матр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меры матриц должны быть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 матричных операций отличаются точкой перед знаком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45C-BEB5-4FDA-9F3F-84FEBCBEBF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тричные и поэлементны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 матричное (и поэлементное) 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матричное (и поэлементное) 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 матричное 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   матричное 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ричное возведение в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матричное деление «сле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 поэлементное 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  поэлементное 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^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элементное возведение в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оэлементное деление «сле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96E-3EE9-4BBF-9894-7E09EBC016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тричные и поэлементны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32000" y="1628640"/>
            <a:ext cx="6552720" cy="4319280"/>
            <a:chOff x="1332000" y="1628640"/>
            <a:chExt cx="6552720" cy="431928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1332000" y="1628640"/>
              <a:ext cx="3085200" cy="43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5174280" y="1699200"/>
              <a:ext cx="2710440" cy="423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36D-F87F-45B5-A8FB-ED982A1CFD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тричные и поэлементны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ие операции часто используются, если нужно применить какую либо функцию ко всем элементам матр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6335640" cy="44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6DA-BDC6-4F7D-BE98-6F01636900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тричные и поэлементны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которые операции по умолчанию считаются поэлементны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59280" y="1455840"/>
            <a:ext cx="3375000" cy="530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F72-597B-4F57-99DB-AEE0B1A719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ерации «деления» слева и с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яются для решения систем линейных уравнений (СЛ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ение слев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вадратных матриц реализует метод Гау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ямоугольных матриц– метод наименьших квадр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2167200" cy="568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807-B2C4-4219-91C0-E0C5F0B37C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рицы специального в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основной синтаксис на примере функции создания единичной матриц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y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ye(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единичной матрицы размер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m, m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ye(m,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единичной матрицы размер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m, 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лишние» строки или столбцы дополняются ну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2A3-0A04-497E-A1C0-17A5E1B66B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рицы специального в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195640" y="1557360"/>
          <a:ext cx="4897440" cy="47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557360"/>
                    <a:ext cx="489744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FEA4-3C6F-48C2-BCCD-7476B2D3DC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рицы специального в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00000" y="1341360"/>
            <a:ext cx="6840360" cy="5182920"/>
            <a:chOff x="900000" y="1341360"/>
            <a:chExt cx="6840360" cy="51829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900000" y="1641600"/>
              <a:ext cx="2863800" cy="447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4250880" y="1341360"/>
              <a:ext cx="3489480" cy="51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872-B9D3-4149-B347-A66BEA60C3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рицы специального в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95640" y="1587600"/>
            <a:ext cx="4968720" cy="475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8C7-A7E5-4AC8-9986-C1235AF0BB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рицы специального в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34340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087-73C2-4BC1-8D1B-62B4F36735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рицы специального в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a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диагональными матриц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оторых ненулевые элементы расположены на диагонал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такси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diag(v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главной диагонали матриц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ожены элементы векто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diag(v,k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й диагонали матриц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ожены элементы векто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 умолчани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 = diag(X,k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лечь из матриц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ю диагональ и сохранить её в вектор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77D-4017-467F-B856-378344572E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рицы специального в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14240" y="1341360"/>
          <a:ext cx="357372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341360"/>
                    <a:ext cx="357372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48360" y="1197000"/>
            <a:ext cx="3073320" cy="55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156-58F9-4E6A-B425-4583228187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3:59:18Z</dcterms:created>
  <dc:creator>Vadim Djenjer</dc:creator>
  <dc:description/>
  <dc:language>en-US</dc:language>
  <cp:lastModifiedBy>ais</cp:lastModifiedBy>
  <dcterms:modified xsi:type="dcterms:W3CDTF">2008-09-12T06:41:10Z</dcterms:modified>
  <cp:revision>23</cp:revision>
  <dc:subject/>
  <dc:title>Вычисления в Matlab</dc:title>
</cp:coreProperties>
</file>