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48D-8F6B-4FE6-8E52-B92CA373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1AB-7F87-4C45-AC35-72350630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449-40DA-4A2A-9E04-5CDEF442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EC9-9CFC-4061-8FE3-0544D0AE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2D4-5D10-4FE2-A8AF-2BA4637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55C-F041-4ECC-B233-1A5AC4C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5A2-0610-47CA-BC9F-8C9079D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B9D-00E9-47DF-8A57-50F26B4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C11-ADD2-4B51-A669-861955C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C99-12D2-4CA9-953F-0FBB904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70F-10A8-4C37-B2E7-0B93CAB8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1CC-0557-4E3C-B4C0-FC37F70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FA61CD-5FEB-475E-8C31-02F2FC99926E}" type="datetime10">
              <a:rPr b="0" lang="ru-RU" sz="1400" spc="-1" strike="noStrike">
                <a:solidFill>
                  <a:srgbClr val="000000"/>
                </a:solidFill>
                <a:latin typeface="Arial"/>
              </a:rPr>
              <a:t>1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921-5D67-4517-9087-B53E280D2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ческие возможности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 команды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47200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7A5-07AD-475A-AA61-62D67B2A0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роение нескольких графиков в одном окне в разных 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хность графического окна можно разделить на зоны, в каждой из которых выводить сво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служит команда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ub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параметров ей передаётся трёхзначное целое вида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ют количество графических «подокон» по горизонтали и вертик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ёт номер графического «подок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нумерации – по ст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86F-735C-40F2-AD1E-104F8E431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0" i="1" lang="en-US" sz="4400" spc="-1" strike="noStrike">
                <a:solidFill>
                  <a:srgbClr val="000000"/>
                </a:solidFill>
                <a:latin typeface="Courier New"/>
              </a:rPr>
              <a:t>sub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7960" y="1600200"/>
            <a:ext cx="5648400" cy="48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A0B-5AC2-4E8E-8E5E-916C6A1B8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ой </a:t>
            </a:r>
            <a:r>
              <a:rPr b="0" i="1" lang="en-US" sz="4400" spc="-1" strike="noStrike">
                <a:solidFill>
                  <a:srgbClr val="000000"/>
                </a:solidFill>
                <a:latin typeface="Courier New"/>
              </a:rPr>
              <a:t>sub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89440" cy="50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9D2-0F3B-4DCB-AC11-39F82BB6B3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ее хитрый пример </a:t>
            </a: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subp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E7A-4D18-43D4-8A62-FADD441AD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роение графиков в разных графических ок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ь новое графическое окно можно командой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g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ёт графическое окно и возвращает указатель на н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 =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изировать ранее созданное окно можно командой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gure(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58E-3EA9-4B40-8997-F464D34B42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680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86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figur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 пример использован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DD4-B153-400B-B9D6-07C1BF708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figur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 пример использования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056360" cy="56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C22-5025-4C44-801F-D221D2507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urier New"/>
              </a:rPr>
              <a:t>Ax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 масштаб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xis([Xmin Xmax Ymin Ymax]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ёт область построения графиков по ося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, если результат автомасштабирования неудовлетворите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822-D850-4941-BB62-E5635CD6A5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Axis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использу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222200"/>
            <a:ext cx="7632720" cy="51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63B-6AAF-482F-A148-5646781BD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ка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уров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ебует от пользователя детальных знаний о работе графическо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объект на рисунке имеет свойства, которые можно ме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е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d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графическим объектам возможен как через инспектор объектов, так и при помощи встроенны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скрипторная граф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533-6E60-493A-BE48-B2CB0E764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Axis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273320"/>
            <a:ext cx="568944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3FA-13CA-4B23-B18A-FFF190988B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формление граф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фиков можно за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штабную сетку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оловок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tle(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заголовок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иси осей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label(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текст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label (’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текст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головках и подписях можно использовать нотацию систем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071-8E79-4B6A-BBD4-521619F2FC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оформлени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58920" y="1419120"/>
            <a:ext cx="6985080" cy="51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B73-60A1-4FEC-B4FF-C05DA14D4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ование граф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о из меню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4616640" cy="518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C41-EBD3-4E5E-8409-8DBEA93BC0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и функций, заданных параметрич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ятся при помощи оператора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ачале задаётся диапазон построения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вычисляются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y(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троится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84D-4388-4E70-9B99-69DE108914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и функций, заданных параметрич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1498680"/>
            <a:ext cx="777528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517-B3D5-4AA5-9289-7EB977B03B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и функций, заданных параметрич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и параметрических функций часто возникают в физических при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переменная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случае имеет смысл времени,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ения динамического графика можно использовать функцию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omet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5F1-6C56-4E59-86D7-1E38B8C7A6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в полярной 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ятся аналогично графикам функций в декартовой сис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ения используется команда 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A4C-453E-4A6C-8B08-137B3708E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в полярной 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064360" cy="52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242-E71D-4125-9865-BC59C2D09F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х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урных диаграмм (линии равного уровн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ных п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ых по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ёхмерная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18A-4F2B-46BD-B4FA-FD057C2D0A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мерные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 граф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ейший способ постро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ть область построения (диапазо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функции на области постр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график при помощи одной из встроенных функци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2DD-6E23-426B-A2E7-E66D7DA32D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08360" cy="22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059280" y="26028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3168720" cy="238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564000" y="2492280"/>
            <a:ext cx="3024000" cy="2338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32720" y="2421000"/>
            <a:ext cx="20635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012000" y="260280"/>
            <a:ext cx="2987640" cy="208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79280" y="5013360"/>
            <a:ext cx="3313080" cy="162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564000" y="4869000"/>
            <a:ext cx="23032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143760" y="492120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6C8-7FAF-4BA8-A0CE-2F1F34129A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ение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поверх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,y)=sin(r)/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=sqrt(x</a:t>
            </a:r>
            <a:r>
              <a:rPr b="0" i="1" lang="en-US" sz="3200" spc="-1" strike="noStrike" baseline="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i="1" lang="en-US" sz="3200" spc="-1" strike="noStrike" baseline="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7A6-555B-4B12-A166-EA1AD41749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61440" cy="3624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362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shgr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две матр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определяют область постро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иапазоны п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ые, то функции передаются два диапа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 поверхность выводится функцией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r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59F-FB30-4C2D-8FC8-1EDCEFA064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для построения поверх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628640"/>
          <a:ext cx="8497800" cy="3162240"/>
        </p:xfrm>
        <a:graphic>
          <a:graphicData uri="http://schemas.openxmlformats.org/drawingml/2006/table">
            <a:tbl>
              <a:tblPr/>
              <a:tblGrid>
                <a:gridCol w="2013840"/>
                <a:gridCol w="6483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 использу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sh, su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поверх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shc, sur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 поверхность и контурную диаграмму под 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s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рхность на «пьедестал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свеченная поверх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урная диа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o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ёхмерная линия (параметрическое задание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по трёхмерной ли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руг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х функциях можно узнать в системе помощ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9DC-352E-4291-9CC7-B7B02C4D2A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840360" cy="615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965-91EA-4186-8596-81FA9992D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ение второго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сразу же построить другой график, то старый график будет удалён из графическо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824360" cy="46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94-3313-4444-A945-B15B06E73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роение двух графиков в одной системе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графика в одной СК можно построить следующими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крепить» графическое окно при помощи команды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ol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ть одну команду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BBE-F6EF-43AB-846E-AE445B284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репление графического ок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993080" cy="527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D18-7607-49A5-B592-D19BC4324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ые параметры команды </a:t>
            </a: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55964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4B1-EB08-405F-A275-E3A5388260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ые параметры команды </a:t>
            </a: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p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анде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задать для каждого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линии       тип маркера            тип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624720" cy="34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D98-A9CD-4CA4-B022-6B9625D58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59:18Z</dcterms:created>
  <dc:creator>Vadim Djenjer</dc:creator>
  <dc:description/>
  <dc:language>en-US</dc:language>
  <cp:lastModifiedBy>ais</cp:lastModifiedBy>
  <dcterms:modified xsi:type="dcterms:W3CDTF">2008-09-12T08:59:45Z</dcterms:modified>
  <cp:revision>42</cp:revision>
  <dc:subject/>
  <dc:title>Вычисления в Matlab</dc:title>
</cp:coreProperties>
</file>