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21C-8081-4206-BDE9-D98691DA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427-C5E3-4E89-82DF-EBC0137B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2D7-4B75-4B2C-AD06-49FF66FE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ABC-64A5-47D8-B8A7-C3D5C7AF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7F2-7FD7-473B-A390-5AE763E1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786-0109-4ADC-B389-85837D98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F2F-1D49-4EA4-9367-B106EF38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D7E-B347-424D-A5BB-6BA80B5B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DD8-AD41-44FE-BE33-A3CE0D7B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6F7-5AAB-4B54-935E-B520C31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2CC-3A05-43D6-98AA-329E2462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97E-25DB-4C9F-9DA0-87664FC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5B3E4E-5DEA-4181-BA59-F443D7309E7D}" type="datetime10">
              <a:rPr b="0" lang="en-US" sz="1400" spc="-1" strike="noStrike">
                <a:solidFill>
                  <a:srgbClr val="000000"/>
                </a:solidFill>
                <a:latin typeface="Arial"/>
              </a:rPr>
              <a:t>1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8D51-D597-48A1-8EB4-B179680E2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тические вычисления в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0" y="1988640"/>
            <a:ext cx="4103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астные произво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79640" y="1317600"/>
            <a:ext cx="5400720" cy="53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7CF-DEED-4943-813B-99F2561C30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8208720" cy="35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450-7147-4729-9ED3-43CA5C9B2F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дносторонние пре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функци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/|x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616720" cy="447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CFA-316E-4F0E-87FA-FD71E6CA9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дносторонние пре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1947960"/>
            <a:ext cx="4896000" cy="38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2BD-3ADA-4E66-9731-855CC64AC0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ел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(сводная таблиц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1919160"/>
            <a:ext cx="583236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3C6-8FD1-4D34-AF9E-109BDE7F2E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тегр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1386000"/>
            <a:ext cx="720072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A7A-A555-423F-95DA-EDCF7D928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тегралы с параметр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32000" y="812880"/>
            <a:ext cx="6696000" cy="591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EB6-B1C7-46D7-B00B-94439BB11B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тегралы с параметр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763640" y="833400"/>
            <a:ext cx="6048360" cy="6024600"/>
            <a:chOff x="1763640" y="833400"/>
            <a:chExt cx="6048360" cy="60246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1763640" y="833400"/>
              <a:ext cx="6048360" cy="60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435280" y="3068640"/>
              <a:ext cx="1873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 --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это признак действительного 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188-E4C1-4D99-B46A-94B7AF8242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мм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24000" y="1697040"/>
            <a:ext cx="482436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AAD-A2B3-4A5D-A7D5-605E32BD33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ложение в ряд Тейл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58760" y="1413000"/>
            <a:ext cx="8805960" cy="4556160"/>
            <a:chOff x="158760" y="1413000"/>
            <a:chExt cx="8805960" cy="45561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280836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3059280" y="1413000"/>
              <a:ext cx="5905440" cy="45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58760" y="3305160"/>
              <a:ext cx="218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пробуйте также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оманду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aylort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DAA-30B6-4BA0-AE55-1A50CEA34E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можно вычисля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вычисление определённого интегр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формуле Ньютона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b) – F(a)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обра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е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оч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зультат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первообразную не всегда можно найти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: методом прямоугольников, трапеций, Симпсона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пользоваться даже тогда, когда интеграл «не берётся»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при вычислении возникают погрешности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48760" y="1484280"/>
          <a:ext cx="7952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48760" y="1484280"/>
                    <a:ext cx="7952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459-C8A8-43AD-9349-B379A48072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ложение в ряд Тейл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65040" y="1413000"/>
            <a:ext cx="8137440" cy="5006880"/>
            <a:chOff x="365040" y="1413000"/>
            <a:chExt cx="8137440" cy="50068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365040" y="2276640"/>
              <a:ext cx="7057800" cy="41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4398840" y="1413000"/>
              <a:ext cx="4103640" cy="338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5BD-B913-4E3A-870C-3602D84EF9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: исследован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4000" y="1509840"/>
            <a:ext cx="8640720" cy="4303080"/>
            <a:chOff x="324000" y="1509840"/>
            <a:chExt cx="8640720" cy="43030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611280" y="4606920"/>
              <a:ext cx="273672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324000" y="1509840"/>
              <a:ext cx="4392360" cy="28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716360" y="1509840"/>
              <a:ext cx="4248360" cy="348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770-7D6B-43B7-A62A-C91417BA6E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йдём горизонтальную асимпт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596960"/>
            <a:ext cx="3959280" cy="38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D92-E05D-4386-8ADF-88854C2E22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йдём вертикальные асимпт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32000" y="1341360"/>
            <a:ext cx="6408720" cy="4235400"/>
            <a:chOff x="1332000" y="1341360"/>
            <a:chExt cx="6408720" cy="42354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332000" y="1341360"/>
              <a:ext cx="640872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2050920" y="4724280"/>
              <a:ext cx="187344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4859280" y="4724280"/>
              <a:ext cx="165744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072-7002-43CB-8E90-99C6F50487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д для построения асимпт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129800" cy="323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829-BDE5-40AE-B1C7-9862BD72D5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ображение асимпт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1414440"/>
            <a:ext cx="626436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340-9370-4D90-BA73-2B8A38A237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стремумы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1266840"/>
            <a:ext cx="6335640" cy="53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784-D648-4026-8EC2-E1A7E8FBBF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роение экстрему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19280" y="1268280"/>
            <a:ext cx="5508720" cy="5505480"/>
            <a:chOff x="1619280" y="1268280"/>
            <a:chExt cx="5508720" cy="55054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619280" y="1268280"/>
              <a:ext cx="5508720" cy="168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2340000" y="2997360"/>
              <a:ext cx="4464000" cy="37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B63-2FBD-47E7-A45C-2D4CF8F3E1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ерации над полино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изуются при помощи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977-164B-4FE3-8DDD-C182091E2B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ерации над полино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числяет коэффициенты при степенях независимой пе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умолчанию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явно задать имя независимой переменной в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 (f, Var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63640" y="4292640"/>
            <a:ext cx="5345280" cy="20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A3C-FD15-4A60-8FCA-3D04144660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едств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начальн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л средства только для численн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годня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роены средства аналитических (символьных) вычис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Math Too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вычислительным ядром систе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l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l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136-1812-4453-8670-E28AB3385F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ерации над полино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яет полином суммой степеней без приведения подоб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2711520"/>
            <a:ext cx="6409080" cy="32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F42-91F4-4627-8EAA-5E63A943E9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ерации над полино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агает полином на множители, если эти множители имеют рациональные коэффици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63640" y="3213000"/>
            <a:ext cx="5618160" cy="212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5F7-76BF-4FA5-A533-1512F58673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ерации над полино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ит каноническое разложение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748800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1FF-2DD3-456A-B374-F3BD7555AE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ерации над полино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r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яет полином в схеме Горн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5977080" cy="160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6AB-EBD7-4F5F-81E0-3CEF3EDBD3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прощение выра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569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изует мощный алгоритм упрощения с использованием тригонометрических, степенных, логарифмических, экспоненциальных функций, а также спецфункций (Бесселя, гипергеометрической, интеграла ошибок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ытается получить выражение, которое представляется меньшим числом символов, чем исходное, последовательно применяя все функции упрощ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Math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oo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F3F-33F1-41A6-9A04-F6CA11245C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0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CE0-578F-419C-A7FC-C9EADFDB29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1800" y="1684440"/>
            <a:ext cx="8569440" cy="39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D56-A565-4C9D-99F7-C94140AF2B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ти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огд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ёт более удачное решение, чем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mpli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6697800" cy="177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9FC-8B36-4E4B-A69C-DB02488A30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 эффективна при работе с тригонометрическими выраж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73800" cy="31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6AE-C5AF-4928-A68F-7545F34CE8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дстан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ставляет одно символьное выражение в друг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форм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(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куда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, 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вместо чего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, 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AC8-4685-4BFA-B3AC-8BE215776E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оздание символьных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имвольного анализа требуется создать символьные переменные 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ьные переменные созд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дной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=sym(’x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же можно создать целое символьное 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колько сразу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ms x y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ьные функции определяются через символьные переменные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=x^2+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остроения символьных функций можно воспользоваться командой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z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ь в стандартной форме – командой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70E-04BC-4F63-81F3-C672664D0C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 подстан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603440"/>
            <a:ext cx="7848720" cy="42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461-DEBF-4069-80FA-A96734520C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дстановка значения в функ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становка вместо переменной её числового значения приводит к вычислению символьной функции от значения арг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50920" y="3141720"/>
            <a:ext cx="4897440" cy="34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A18-310B-4B5B-8079-9F57C29C049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очная арифме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ные вычисления реализуются функцией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Variable-Precision Arithme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т выз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pa(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, 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значащих цифр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3AC-ABC5-4EBC-BBA4-175D98C0C62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очная арифме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1427040"/>
            <a:ext cx="7777080" cy="478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61A-E546-4EAA-8C7C-C6B6B6E2E79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шение уравнений и сист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яет команд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4-го порядка включительно решаются 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 выводится в степенях рациональ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авнения высших порядков и трансцендентные, как правило, точно не реш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случае выводится приближённ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сокращения записи при выводе могут использоваться под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D4F-EBB0-4CA5-BA49-DD5AF25784B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шение уравнений и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25800" y="563400"/>
            <a:ext cx="7918200" cy="6046920"/>
            <a:chOff x="325800" y="563400"/>
            <a:chExt cx="7918200" cy="60469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1042920" y="563400"/>
              <a:ext cx="7201080" cy="60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25800" y="2349360"/>
              <a:ext cx="988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это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нимая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един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2AE-0959-4B87-9F09-2330274A99D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шение сист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 выполняет команд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ходные арг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вые части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енные, по которым нужно разрешить 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 = solve(f1, f2, x1, 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ходной арг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а (запись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лями (в данном случае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хранящими символьное представлени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9B4-C2E5-4426-97C0-10E3474F28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имер решения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50920" y="692280"/>
            <a:ext cx="8294760" cy="6165720"/>
            <a:chOff x="250920" y="692280"/>
            <a:chExt cx="8294760" cy="61657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50920" y="811080"/>
              <a:ext cx="7921440" cy="604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6659640" y="692280"/>
              <a:ext cx="188604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FDD-BA9C-4F59-BA9C-8EE8CE2B931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шение дифференциальных урав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яет команд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6F0-015F-4E67-B7E8-D00E0B86C16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545080" cy="52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17D-DD8F-421A-92EA-980118DB4D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дставление символьных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93080" cy="271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F3B-14DA-46D5-A0C2-17E54DD615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имвольные вы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образования анали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фференцирование, пределы, интегрирование, разложение в ряд Тей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прощение и под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чная арифме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нейная 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шение уравнений и и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ых и дифференциа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34C-820F-4C9D-8997-69CC46F97C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ифференц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198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972-749F-4B3E-8C6D-ACC21A0532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астные произво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6481800" cy="42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5A8-D5AD-4384-8274-93FB110C36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3:59:18Z</dcterms:created>
  <dc:creator>Vadim Djenjer</dc:creator>
  <dc:description/>
  <dc:language>en-US</dc:language>
  <cp:lastModifiedBy>ais</cp:lastModifiedBy>
  <dcterms:modified xsi:type="dcterms:W3CDTF">2008-09-12T09:03:33Z</dcterms:modified>
  <cp:revision>93</cp:revision>
  <dc:subject/>
  <dc:title>Вычисления в Matlab</dc:title>
</cp:coreProperties>
</file>