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C396-8A94-4D71-8E65-FED176752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260E-D378-42F5-AA36-82D9841BC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D679-52FB-49D0-8776-163A98683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CDA7-FFB3-49F7-905D-E8A407782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73E9-F92F-49FC-A8DF-4F582679A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6552-6901-49D3-B888-B0292D661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0111-0A8A-42A7-ABEE-74F667E1E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3223-04AC-454F-B1D4-E0441C3C0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A864-0076-4AD1-BBA1-44EA3B8BB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6909-D2D7-4EBF-9EAA-F8159022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4457-C97B-4845-9D3E-D5C14117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52E8-B2BA-4B67-9A73-3E385813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5D0E658-FD20-41E9-B49A-BF9C2CA5CE6E}" type="datetime10">
              <a:rPr b="0" lang="en-US" sz="1400" spc="-1" strike="noStrike">
                <a:solidFill>
                  <a:srgbClr val="000000"/>
                </a:solidFill>
                <a:latin typeface="Arial"/>
              </a:rPr>
              <a:t>14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40E17-A980-418D-A85A-76C4009E9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22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граммирование в Matl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40000" y="1988640"/>
            <a:ext cx="41036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10280" cy="39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ммента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жно автоматически закомментировать блок текста. Для этог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елить бл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щёлкнуть правой кноп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брат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nt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ил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trl+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ять комментар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елить закомментированный бл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щёлкнуть правой кноп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брат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comment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ил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trl+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00E7-62E4-4D1A-B796-5462D151006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здание фун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айл можно создать в любом текстовом редакто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ример, во встроенном редакто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помощи мен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команд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dit &lt;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имя файла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364000" y="3860640"/>
            <a:ext cx="3600720" cy="1841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4172-132E-4779-8CB4-FE7CD52E98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пользование фун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ункция вызывается по своему имени (которое совпадает с именем её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айл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00000" y="2637000"/>
            <a:ext cx="7848720" cy="2341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203640" y="5013360"/>
            <a:ext cx="3457440" cy="1689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F8DD-7FE6-4E19-9127-CCAC76A5F18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ходные и выходные парамет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написании функций 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lab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жно (и желательно!) проводить проверку количества входных и выходных парамет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этого в описании функции используют служебные сло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arg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о входных парамет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arg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о выходных парамет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23BD-5A83-4F9A-B911-45E66542857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532764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ходные и выходные параметры (пример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71640" y="2060640"/>
            <a:ext cx="3897360" cy="4608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084720" y="189000"/>
            <a:ext cx="1893960" cy="666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A017-76AB-4750-AB6D-46E3BB1C4BB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дфун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файлах-функциях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la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могут быть реально описаны несколько функ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нтаксически это оформляется как две (или более) функций, записанных в одном фай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вызове таког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айла происходит запуск самой первой функ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ё имя должно совпадать с именем фай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исание следующих функций лока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ычно они используются как вспомогательные для первой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CC27-06BA-4D6D-A02E-110737BD5F8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дфункции (пример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187280" y="1682640"/>
            <a:ext cx="6840720" cy="4405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5726-0259-495E-9A44-04F498BFAB1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ложенные фун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мимо последовательного вложения в один файл функция может быть описана непосредственно в теле другой функ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акая функция называется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вложен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ложенная функция, в свою очередь, может содержать другие вложенные функ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D900-B6DF-4170-9550-AF62BA4FEA5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ложенные функции (примеры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826920" y="1844640"/>
            <a:ext cx="7345080" cy="3310920"/>
            <a:chOff x="826920" y="1844640"/>
            <a:chExt cx="7345080" cy="3310920"/>
          </a:xfrm>
        </p:grpSpPr>
        <p:pic>
          <p:nvPicPr>
            <p:cNvPr id="100" name="" descr=""/>
            <p:cNvPicPr/>
            <p:nvPr/>
          </p:nvPicPr>
          <p:blipFill>
            <a:blip r:embed="rId1"/>
            <a:stretch/>
          </p:blipFill>
          <p:spPr>
            <a:xfrm>
              <a:off x="826920" y="1844640"/>
              <a:ext cx="3367800" cy="327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4588200" y="1877040"/>
              <a:ext cx="3583800" cy="327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DBE6-333F-4EF5-BC5C-97F75F4A723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здание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-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вызов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айла сравнительно много времени тратится на его компиляц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бы сократить время выполнения можно предварительно перевест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файл 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д («пи-код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анда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code &lt;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имя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-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файла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компилированный в псевдокод файл получает расширение 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ой файл будет выполняться быстрее, чем обычны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ай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8227-52F2-4B31-B49B-3CB415D5B1D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ипы программных файл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исание программ – это альтернатива работе в командной стро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граммный код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мещают в файлах с расширением «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m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айла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айлы бывают двух вид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крипты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scrip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функци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func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 сожалению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хо понимает кириллицу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28F1-7E8C-4A08-B651-29B06D9162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нтерактивный ввод данных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85690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уется при написании скрип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вво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исловых данных применяют функцию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pu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форма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x = input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строка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приглашения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ведённое пользователем значение сохранится в переменно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вво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оковых данных функция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pu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зывается с дополнительным параметро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 = input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строка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приглашения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’,’s’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оме того, имеется Си-подобная функция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scan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0C1B-D1A4-4F65-81AA-97DBE235144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мер использования </a:t>
            </a: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in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8640720" cy="11383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908000" y="3573360"/>
            <a:ext cx="5185080" cy="2370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F01B-65B8-4569-82C4-645DB697F11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ывод данных в командное окн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этого используют команду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pl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 форма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p(&lt;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выводимая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строка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ыводимое значение – число, то вначале его преобразуют к строковому типу при помощи функций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2st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m2st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катенацию строк производят как для одномерных векторов-ст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340000" y="4581360"/>
            <a:ext cx="4967280" cy="13478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39640" y="6021360"/>
            <a:ext cx="806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ом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го, имеется Си-подобная функция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prin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2477-068E-404D-91AC-E3E0FA20210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сновные языковые конструк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и любой процедурный язык высокого уровня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воляет использовать при написании програм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ед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т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ик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ьзовательские функ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6034-03AB-4C2C-994F-4FDFEF9B5AC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лед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ализуется перечислением каждого из операторов в отдельной стро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ибо в одной строке через запятую (или точку с запято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A16A-8F38-42CE-A011-C1B6B8732D8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етв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ализуется в двух варианта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помощи оператора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помощи оператора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wi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38B7-D3BF-4ACA-8CCE-6AB3B8D2691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ператор </a:t>
            </a: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i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стейшая форм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 &lt;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логическое выражение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операторы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340000" y="3933720"/>
            <a:ext cx="4681440" cy="18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0E92-EE72-4CFE-BA74-2F24120D3D3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лный формат оператора </a:t>
            </a: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i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олном варианте оператора могут использоваться слова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о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ет использоваться в одном операторе многократно с указанием усло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о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только один раз в конце оператора и без усло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68360" y="4076640"/>
            <a:ext cx="8229600" cy="218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402A-9950-4DD7-8636-7003C317009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ик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еется два вида цикл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икл с параметром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ик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едусловие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h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кже имею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ератор досрочного выхода из цикла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r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ератор перехода к следующей итерации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ti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00E6-CAF0-4815-BD4C-10D89B2CE02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икл с параметр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763640" y="1628640"/>
            <a:ext cx="6121080" cy="4824000"/>
            <a:chOff x="1763640" y="1628640"/>
            <a:chExt cx="6121080" cy="482400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1763640" y="1628640"/>
              <a:ext cx="6121080" cy="127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1876680" y="3155040"/>
              <a:ext cx="4420800" cy="129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3"/>
            <a:stretch/>
          </p:blipFill>
          <p:spPr>
            <a:xfrm>
              <a:off x="1991520" y="4685040"/>
              <a:ext cx="4797720" cy="1767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27C9-9D46-4D69-9DBD-06F1E45CDF0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крип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ставляют собой последовательности команд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если бы мы перенесли их из командного окна в отдельный фай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рипт вызывается по имени через командную стро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рипт выполняется в режиме интерпретат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3DE4-9184-495E-9E6D-AB2999121E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мечание по использованию цикла с параметр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ычно цикл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уется для обработки массив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жно помнить, что если есть возможность обойтись без этого цикла (применить матричные или векторные операции), то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лучше избавиться от явного цик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этом случае программа будет работать на порядок быстр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677D-10A3-40CF-BFC2-B72672AB839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имер: замена отрицательных элементов вектора на нули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с циклом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835280" y="1773360"/>
            <a:ext cx="6049800" cy="4906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A045-5EE8-4B2A-8DB6-B210F45F005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имер: замена отрицательных элементов вектора на нули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без цикл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187280" y="1773360"/>
            <a:ext cx="6121440" cy="488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9DCC-FE8A-4339-9D32-BC6FC38D83C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икл с предуслови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нтакси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&lt;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логическое выражение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операторы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ераторы выполняются, пока логическое выражение есть истин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ru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276F-8509-4146-9641-1F7FB206CED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Цикл с предусловием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пример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68360" y="1454040"/>
            <a:ext cx="792000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C0B2-D68F-402F-90E3-E99BF9789EE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ператоры </a:t>
            </a:r>
            <a:r>
              <a:rPr b="0" lang="en-US" sz="40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4000" spc="-1" strike="noStrike">
                <a:solidFill>
                  <a:srgbClr val="000000"/>
                </a:solidFill>
                <a:latin typeface="Courier New"/>
              </a:rPr>
              <a:t>contin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огичны одноимённым операторам Паска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изводит досрочный выход из цикла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ntin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кращает выполнение текущей итерации и переходит к следующ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8A5C-BE5B-4174-8E9C-2948D170A04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ператоры </a:t>
            </a:r>
            <a:r>
              <a:rPr b="0" lang="en-US" sz="40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4000" spc="-1" strike="noStrike">
                <a:solidFill>
                  <a:srgbClr val="000000"/>
                </a:solidFill>
                <a:latin typeface="Courier New"/>
              </a:rPr>
              <a:t>continue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пример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писать скрипт, который вводит с клавиатуры произвольное количество чисел. Если число положительное, то оно прибавляется к сумме, если отрицательное, то пропускается. Ноль – признак окончания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59FF-0592-4507-8041-8494D06080B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ператоры </a:t>
            </a:r>
            <a:r>
              <a:rPr b="0" lang="en-US" sz="40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4000" spc="-1" strike="noStrike">
                <a:solidFill>
                  <a:srgbClr val="000000"/>
                </a:solidFill>
                <a:latin typeface="Courier New"/>
              </a:rPr>
              <a:t>continue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решение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7993080" cy="374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203E-52B3-4B50-A7D9-C8C8C5A2DCA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ун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ециальный вид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ай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отличие от скриптов могут принимать аргументы и возвращать зна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ование функций позвол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уктурировать програм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бежать повторения к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B75A-5A04-4AB3-A009-CA99A7AEAF6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крип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лезны для автоматизации последовательности действий, которые выполняются многокра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могут принимать параметры и возвращать аргум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ранят значения своих переменных в рабочем пространст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де переменные доступны для других скриптов и из командной стро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CA73-7C9C-47AC-9ACD-44C429B5909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ун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843588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ние функции преследует целью расширение язы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менные, определённые внутри функции являются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локальн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 есть видны только внутри самой функ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ункция имеет собственное и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оме того, с ней связано им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айла, в котором функция запис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дем соблюдать правило: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имя функции и имя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-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файла должны быть одинако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A96F-5948-45D5-A7A5-4D6A076B2C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руктура фун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ункция состоит из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заголов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т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function f = fact(n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Заголов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% </a:t>
            </a:r>
            <a:r>
              <a:rPr b="0" lang="ru-RU" sz="2400" spc="-1" strike="noStrike">
                <a:solidFill>
                  <a:srgbClr val="008000"/>
                </a:solidFill>
                <a:latin typeface="Courier New"/>
              </a:rPr>
              <a:t>Вычисляет факториал</a:t>
            </a: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.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        Линия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H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urier New"/>
              </a:rPr>
              <a:t>% FACT(N) </a:t>
            </a:r>
            <a:r>
              <a:rPr b="0" lang="ru-RU" sz="2400" spc="-1" strike="noStrike">
                <a:solidFill>
                  <a:srgbClr val="009999"/>
                </a:solidFill>
                <a:latin typeface="Courier New"/>
              </a:rPr>
              <a:t>возвращает </a:t>
            </a:r>
            <a:r>
              <a:rPr b="0" lang="en-US" sz="2400" spc="-1" strike="noStrike">
                <a:solidFill>
                  <a:srgbClr val="009999"/>
                </a:solidFill>
                <a:latin typeface="Courier New"/>
              </a:rPr>
              <a:t>N</a:t>
            </a:r>
            <a:r>
              <a:rPr b="0" lang="ru-RU" sz="2400" spc="-1" strike="noStrike">
                <a:solidFill>
                  <a:srgbClr val="009999"/>
                </a:solidFill>
                <a:latin typeface="Courier New"/>
              </a:rPr>
              <a:t>!</a:t>
            </a:r>
            <a:r>
              <a:rPr b="0" lang="en-US" sz="2400" spc="-1" strike="noStrike">
                <a:solidFill>
                  <a:srgbClr val="009999"/>
                </a:solidFill>
                <a:latin typeface="Courier New"/>
              </a:rPr>
              <a:t>,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Hel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urier New"/>
              </a:rPr>
              <a:t>f = prod(1:n);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              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Тело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1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одятся по команде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elp &lt;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имя функции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актически, функция отличается от скрипта наличием заголовка и способом выз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89000"/>
            <a:ext cx="7921800" cy="24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649E-205E-40F8-BC3D-11E7FC6B780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головок фун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function</a:t>
            </a:r>
            <a:r>
              <a:rPr b="0" lang="en-US" sz="36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0" lang="en-US" sz="3600" spc="-1" strike="noStrike">
                <a:solidFill>
                  <a:srgbClr val="a50021"/>
                </a:solidFill>
                <a:latin typeface="Courier New"/>
              </a:rPr>
              <a:t>f</a:t>
            </a:r>
            <a:r>
              <a:rPr b="0" lang="en-US" sz="3600" spc="-1" strike="noStrike">
                <a:solidFill>
                  <a:srgbClr val="333399"/>
                </a:solidFill>
                <a:latin typeface="Courier New"/>
              </a:rPr>
              <a:t> = </a:t>
            </a:r>
            <a:r>
              <a:rPr b="0" lang="en-US" sz="3600" spc="-1" strike="noStrike">
                <a:solidFill>
                  <a:srgbClr val="009999"/>
                </a:solidFill>
                <a:latin typeface="Courier New"/>
              </a:rPr>
              <a:t>fact</a:t>
            </a:r>
            <a:r>
              <a:rPr b="0" lang="en-US" sz="3600" spc="-1" strike="noStrike">
                <a:solidFill>
                  <a:srgbClr val="333399"/>
                </a:solidFill>
                <a:latin typeface="Courier New"/>
              </a:rPr>
              <a:t>(</a:t>
            </a:r>
            <a:r>
              <a:rPr b="0" lang="en-US" sz="3600" spc="-1" strike="noStrike">
                <a:solidFill>
                  <a:srgbClr val="99cc00"/>
                </a:solidFill>
                <a:latin typeface="Courier New"/>
              </a:rPr>
              <a:t>n</a:t>
            </a:r>
            <a:r>
              <a:rPr b="0" lang="en-US" sz="3600" spc="-1" strike="noStrike">
                <a:solidFill>
                  <a:srgbClr val="333399"/>
                </a:solidFill>
                <a:latin typeface="Courier New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514520" y="2204640"/>
            <a:ext cx="7631280" cy="2631240"/>
            <a:chOff x="1514520" y="2204640"/>
            <a:chExt cx="7631280" cy="2631240"/>
          </a:xfrm>
        </p:grpSpPr>
        <p:grpSp>
          <p:nvGrpSpPr>
            <p:cNvPr id="60" name=""/>
            <p:cNvGrpSpPr/>
            <p:nvPr/>
          </p:nvGrpSpPr>
          <p:grpSpPr>
            <a:xfrm>
              <a:off x="5618160" y="2205000"/>
              <a:ext cx="936000" cy="936720"/>
              <a:chOff x="5618160" y="2205000"/>
              <a:chExt cx="936000" cy="936720"/>
            </a:xfrm>
          </p:grpSpPr>
          <p:sp>
            <p:nvSpPr>
              <p:cNvPr id="61" name=""/>
              <p:cNvSpPr/>
              <p:nvPr/>
            </p:nvSpPr>
            <p:spPr>
              <a:xfrm flipV="1">
                <a:off x="5618160" y="2205000"/>
                <a:ext cx="0" cy="9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618160" y="3141720"/>
                <a:ext cx="93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" name=""/>
            <p:cNvSpPr/>
            <p:nvPr/>
          </p:nvSpPr>
          <p:spPr>
            <a:xfrm>
              <a:off x="6605280" y="2847960"/>
              <a:ext cx="233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Входной аргумен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4609800" y="2204640"/>
              <a:ext cx="1943640" cy="1440000"/>
              <a:chOff x="4609800" y="2204640"/>
              <a:chExt cx="1943640" cy="1440000"/>
            </a:xfrm>
          </p:grpSpPr>
          <p:sp>
            <p:nvSpPr>
              <p:cNvPr id="65" name=""/>
              <p:cNvSpPr/>
              <p:nvPr/>
            </p:nvSpPr>
            <p:spPr>
              <a:xfrm flipV="1">
                <a:off x="4609800" y="2204640"/>
                <a:ext cx="0" cy="143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609800" y="3644640"/>
                <a:ext cx="1943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3170160" y="2205000"/>
              <a:ext cx="3454560" cy="1944000"/>
              <a:chOff x="3170160" y="2205000"/>
              <a:chExt cx="3454560" cy="1944000"/>
            </a:xfrm>
          </p:grpSpPr>
          <p:sp>
            <p:nvSpPr>
              <p:cNvPr id="68" name=""/>
              <p:cNvSpPr/>
              <p:nvPr/>
            </p:nvSpPr>
            <p:spPr>
              <a:xfrm flipV="1">
                <a:off x="3170160" y="2205000"/>
                <a:ext cx="0" cy="194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170160" y="4149000"/>
                <a:ext cx="345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1514520" y="2205000"/>
              <a:ext cx="5182920" cy="2447280"/>
              <a:chOff x="1514520" y="2205000"/>
              <a:chExt cx="5182920" cy="2447280"/>
            </a:xfrm>
          </p:grpSpPr>
          <p:sp>
            <p:nvSpPr>
              <p:cNvPr id="71" name=""/>
              <p:cNvSpPr/>
              <p:nvPr/>
            </p:nvSpPr>
            <p:spPr>
              <a:xfrm flipV="1">
                <a:off x="1514520" y="2205000"/>
                <a:ext cx="0" cy="244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514520" y="4652280"/>
                <a:ext cx="518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6626520" y="3403440"/>
              <a:ext cx="176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Имя функц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624360" y="4005360"/>
              <a:ext cx="252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Выходной аргумен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699240" y="4437000"/>
              <a:ext cx="241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Служебное слов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37B9-2D15-4CA1-A4F8-EE1EE733822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ммента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ются 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яснения к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ременного исключения кода из тек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гут быть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трочны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лоч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очные начинаются с символа «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этого места и до конца строки всё игнорируется компилятор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% как в этом приме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очные начинаются с символа «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заканчиваются символом «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%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и символы должны обязательно стоять в отдельных строках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%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86D3-1E17-4048-B2DD-EAD09CA818B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3:59:18Z</dcterms:created>
  <dc:creator>Vadim Djenjer</dc:creator>
  <dc:description/>
  <dc:language>en-US</dc:language>
  <cp:lastModifiedBy>ais</cp:lastModifiedBy>
  <dcterms:modified xsi:type="dcterms:W3CDTF">2008-09-12T09:03:13Z</dcterms:modified>
  <cp:revision>73</cp:revision>
  <dc:subject/>
  <dc:title>Вычисления в Matlab</dc:title>
</cp:coreProperties>
</file>