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399-9EAA-41C2-ABF8-8193CA2F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AFB-96BA-4076-882B-46C9D53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FC3-0044-4E4D-8B03-6F413531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844-E414-4222-B0FC-709A3D95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367-F547-41AC-9F33-3B7EA60B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E82-F049-49D0-AA6D-D182AB24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0C5-7988-48CE-B2D8-2D347EBC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761-AD33-4E01-AEBB-A1BDB7FC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66B-A97C-47EA-A93D-CD114B65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843-1496-4F8B-BC4B-69071C6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DE2-804A-4F0C-8582-3B8B751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A61-52B2-4130-90F6-82DE400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9166-A8F9-4207-B6C0-7DDFB244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числения в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39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2F8-D11E-48AF-AFAE-58BEC489AFD3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кторы-столбцы 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кторы-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ая строка и столбец матрицы – это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ы, расположенные вдоль строк – векторы-строки (размер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ы, расположенные вдоль столбцов – векторы-столб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x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вектора-столб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векторам любого типа применима функц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109960" cy="396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F6B-075D-404B-933F-AAF74D4879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рность и размер матр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ь массива определяется функци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im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массива – функци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2576520" cy="316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2101680" cy="3816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17E-7172-4717-ADD7-2544D43EAE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ате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им две мат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200400" cy="41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F0D-F8CF-4E9A-86CD-DD9560472E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ате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ём склейку «в столбик», а затем «в строку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7B1-6F04-4C0F-A686-FF223ADF68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ате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совпадении размерностей получаем сообщение об оши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472000" cy="14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150-088F-42D7-9054-0BE13373BB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паз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использовать как для задания значений векторов, так и для задания диапазонов индекс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им другие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92720" y="1700280"/>
          <a:ext cx="31957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3195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67F-81AC-4BA2-8B57-14564D6E17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паз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208320" cy="525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237636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1A1-D86E-49DB-B5A0-7DEA1CE909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паз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бращения к  последнему элементу любой размерности можно использовать служебное слово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54600" y="1484280"/>
            <a:ext cx="3568680" cy="46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409-82A6-4406-9EF1-40584BACCF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даление строк и столбц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88880" y="1484280"/>
          <a:ext cx="385128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484280"/>
                    <a:ext cx="38512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826160" y="1484280"/>
          <a:ext cx="3735360" cy="48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6160" y="1484280"/>
                    <a:ext cx="3735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176-0604-4877-B732-D608A5D158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становка эле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19560" cy="3047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79548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D6B-21C9-45EB-8691-364AB18D95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ментарные функц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Тригонометр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771640" y="1628640"/>
            <a:ext cx="216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a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1557360"/>
            <a:ext cx="238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599-9E7C-4583-AE41-AF7AE331A0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ментарные функц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Экспонен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– 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hroot(x,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055-C953-4E71-99C9-EAACA8AFD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арные функ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ругление и ост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гление к ну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r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гление к минус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il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гление к плюс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гление к ближайшему цел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(x,y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 от деле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чёта знак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- n*y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= floor(x/y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(x,y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 от деле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чётом знак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- n*y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= fix(x/y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C91-3D71-4587-B4D7-8BCCB19C88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арные функ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ные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(z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одуль комплексного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(z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з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радиа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(z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тельная 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(z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имая 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(z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о сопряжённое число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(a,b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ирует комплексное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eal(z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истину, ес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F9D-43D1-434A-BFFA-5ED5E27AA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ементар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еть полный список элементарных функций можно коман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help el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8B1-0B18-4A7A-B707-20A496D275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ст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кон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ус бескон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числов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009960" cy="51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3AE-7D6B-4285-978D-9D9DB7B957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номерные масси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масси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[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[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паз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-3: 2  (b = -3 -2 -1 0 1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-3:2:5   (b = -3 -1 1 3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 к элемен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удет равно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3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элементов в массив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(a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удет рав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мерация элементов начинается 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элементов в 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4)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[a 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атенация массив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массива (превращение в пустой масси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[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DA2-C33A-4955-9EFF-6F881740ED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умерные масси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[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; 3 4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уп к элемен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311280" cy="273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4392360" cy="241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CCB-B59B-45D4-B3DC-2A773CCD8B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3:59:18Z</dcterms:created>
  <dc:creator>Vadim Djenjer</dc:creator>
  <dc:description/>
  <dc:language>en-US</dc:language>
  <cp:lastModifiedBy>ais</cp:lastModifiedBy>
  <dcterms:modified xsi:type="dcterms:W3CDTF">2008-09-12T06:03:23Z</dcterms:modified>
  <cp:revision>12</cp:revision>
  <dc:subject/>
  <dc:title>Вычисления в Matlab</dc:title>
</cp:coreProperties>
</file>