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338-8C03-48A0-836D-6DEA901749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7A1D-95EB-40BC-B04D-D9026DE92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158-050C-4337-B218-14C56BFB9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A5F-3513-482C-9326-8ABC83057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C6E-8F3C-4EB8-8978-A365FAE91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D525-3C65-4C05-ACB9-3B2D42079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3D3-57A9-490E-B7EE-793CF2B4C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FD16-D5DC-4685-BF2A-5815E7930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5487-A1DD-4DF9-BFBC-49560FB92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B422-4CC8-4CB4-B79C-698894C49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0A5-95AF-4730-A683-EDEE480F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C50-76A0-4BFC-B15D-74428ED4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7DB-6FF0-4D57-BA66-017E74EC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282-A908-46A1-AE41-0798C977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55DD-67AB-4497-8DCE-16F1BCBC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76C8-69DA-49C9-BFE3-A8BF4A94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CAAA-5386-46C1-AC6F-5A5AF82C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2DF7-A5AB-4B47-8410-AC4C02A6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816B-4CEC-4488-8C59-5B5F8D27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ECBA-D62A-4831-9121-A789B35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E46-D4B8-4F06-AE7F-9E36F35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7CB-AABE-475E-AC0F-DFF7AF9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6993-0DBB-40CB-811B-5B5E7ED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5307-9168-4345-8586-A26B8CE9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9A0-41BE-44BC-B88F-BB88D2E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51FF-59C8-4CA4-9CEA-762726D9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B567-9699-457F-8E4F-8826BF7C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BFA-7D14-4F45-AD09-CB3621CF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012-7FF3-496F-9662-16428DB9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154-107A-453E-9560-2076F6B6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919-D03C-466B-947F-2E1B659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AC9-7CCE-435B-87ED-B6E9898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428-3D61-4CBE-BA52-3D41645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A6D-6E00-437C-A11E-2A9B007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48BB-A56B-4710-9792-1C0A8347E9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2537-4EDD-4535-BB90-D5AE48460E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ифференциальные уравнени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ейные уравнения с постоянными коэффици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586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ч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т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йствительных кор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усть действительное число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рень уравн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рат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ФСР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ЛОДУ ему соответствуют      решений ви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Заме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Характеристическое урав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С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4427640" y="1844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00360" y="2133720"/>
                <a:ext cx="657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5796000" y="2421000"/>
                <a:ext cx="263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11"/>
          <p:cNvSpPr/>
          <p:nvPr/>
        </p:nvSpPr>
        <p:spPr>
          <a:xfrm>
            <a:off x="205092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2"/>
              <p:cNvSpPr txBox="1"/>
              <p:nvPr/>
            </p:nvSpPr>
            <p:spPr>
              <a:xfrm>
                <a:off x="2843280" y="2637000"/>
                <a:ext cx="3097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1914480" y="4089240"/>
                <a:ext cx="208620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2786040" y="4336920"/>
                <a:ext cx="2786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1857240" y="5000760"/>
                <a:ext cx="4302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1"/>
              <p:cNvSpPr txBox="1"/>
              <p:nvPr/>
            </p:nvSpPr>
            <p:spPr>
              <a:xfrm>
                <a:off x="2571840" y="5643720"/>
                <a:ext cx="3562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TextBox 13"/>
          <p:cNvSpPr/>
          <p:nvPr/>
        </p:nvSpPr>
        <p:spPr>
          <a:xfrm>
            <a:off x="6366960" y="521496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ратность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943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СР в случае, когда некоторые кор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1. Случай простого комплексного корн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усть                            - комплексный корень характеристического уравн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гда                         -  также корень этого урав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шения Л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и                                линейно независимые, так к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ункции                                вместе с другими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нейно независимыми решениями ЛОДУ образую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СР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2428920" y="2143080"/>
                <a:ext cx="11206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2357280" y="2714760"/>
                <a:ext cx="1152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195640" y="3357720"/>
                <a:ext cx="3362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268360" y="4221000"/>
                <a:ext cx="6061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2987640" y="3933720"/>
                <a:ext cx="1440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3"/>
              <p:cNvSpPr txBox="1"/>
              <p:nvPr/>
            </p:nvSpPr>
            <p:spPr>
              <a:xfrm>
                <a:off x="2916360" y="5157720"/>
                <a:ext cx="1439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AutoShape 14"/>
          <p:cNvSpPr/>
          <p:nvPr/>
        </p:nvSpPr>
        <p:spPr>
          <a:xfrm>
            <a:off x="6715080" y="3714840"/>
            <a:ext cx="125280" cy="14580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45800"/>
              <a:gd name="textAreaBottom" fmla="*/ 137880 h 145800"/>
            </a:gdLst>
            <a:ahLst/>
            <a:rect l="textAreaLeft" t="textAreaTop" r="textAreaRight" b="textAreaBottom"/>
            <a:pathLst>
              <a:path w="21600" h="25128">
                <a:moveTo>
                  <a:pt x="0" y="0"/>
                </a:moveTo>
                <a:lnTo>
                  <a:pt x="21600" y="0"/>
                </a:lnTo>
                <a:lnTo>
                  <a:pt x="21600" y="25128"/>
                </a:lnTo>
                <a:lnTo>
                  <a:pt x="0" y="25128"/>
                </a:lnTo>
                <a:close/>
              </a:path>
              <a:path fill="lightenLess" w="21600" h="251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28">
                <a:moveTo>
                  <a:pt x="21600" y="0"/>
                </a:moveTo>
                <a:lnTo>
                  <a:pt x="21600" y="25128"/>
                </a:lnTo>
                <a:lnTo>
                  <a:pt x="20200" y="23728"/>
                </a:lnTo>
                <a:lnTo>
                  <a:pt x="20200" y="1400"/>
                </a:lnTo>
                <a:close/>
              </a:path>
              <a:path fill="darkenLess" w="21600" h="25128">
                <a:moveTo>
                  <a:pt x="21600" y="25128"/>
                </a:moveTo>
                <a:lnTo>
                  <a:pt x="0" y="25128"/>
                </a:lnTo>
                <a:lnTo>
                  <a:pt x="1400" y="23728"/>
                </a:lnTo>
                <a:lnTo>
                  <a:pt x="20200" y="23728"/>
                </a:lnTo>
                <a:close/>
              </a:path>
              <a:path fill="lighten" w="21600" h="25128">
                <a:moveTo>
                  <a:pt x="0" y="251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28"/>
                </a:lnTo>
                <a:close/>
              </a:path>
              <a:path fill="darkenLess" w="21600" h="25128">
                <a:moveTo>
                  <a:pt x="5273" y="5749"/>
                </a:moveTo>
                <a:lnTo>
                  <a:pt x="12271" y="5749"/>
                </a:lnTo>
                <a:lnTo>
                  <a:pt x="16327" y="9248"/>
                </a:lnTo>
                <a:lnTo>
                  <a:pt x="16327" y="19379"/>
                </a:lnTo>
                <a:lnTo>
                  <a:pt x="5273" y="19379"/>
                </a:lnTo>
                <a:close/>
              </a:path>
              <a:path fill="darken" w="21600" h="25128">
                <a:moveTo>
                  <a:pt x="12271" y="5749"/>
                </a:moveTo>
                <a:lnTo>
                  <a:pt x="16327" y="9248"/>
                </a:lnTo>
                <a:lnTo>
                  <a:pt x="12271" y="9248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6643800" y="2714760"/>
            <a:ext cx="214200" cy="144360"/>
          </a:xfrm>
          <a:custGeom>
            <a:avLst/>
            <a:gdLst>
              <a:gd name="textAreaLeft" fmla="*/ 9360 w 214200"/>
              <a:gd name="textAreaRight" fmla="*/ 204840 w 2142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024" h="21600">
                <a:moveTo>
                  <a:pt x="0" y="0"/>
                </a:moveTo>
                <a:lnTo>
                  <a:pt x="32024" y="0"/>
                </a:lnTo>
                <a:lnTo>
                  <a:pt x="32024" y="21600"/>
                </a:lnTo>
                <a:lnTo>
                  <a:pt x="0" y="21600"/>
                </a:lnTo>
                <a:close/>
              </a:path>
              <a:path fill="lightenLess" w="32024" h="21600">
                <a:moveTo>
                  <a:pt x="0" y="0"/>
                </a:moveTo>
                <a:lnTo>
                  <a:pt x="32024" y="0"/>
                </a:lnTo>
                <a:lnTo>
                  <a:pt x="30624" y="1400"/>
                </a:lnTo>
                <a:lnTo>
                  <a:pt x="1400" y="1400"/>
                </a:lnTo>
                <a:close/>
              </a:path>
              <a:path fill="darken" w="32024" h="21600">
                <a:moveTo>
                  <a:pt x="32024" y="0"/>
                </a:moveTo>
                <a:lnTo>
                  <a:pt x="32024" y="21600"/>
                </a:lnTo>
                <a:lnTo>
                  <a:pt x="30624" y="20200"/>
                </a:lnTo>
                <a:lnTo>
                  <a:pt x="30624" y="1400"/>
                </a:lnTo>
                <a:close/>
              </a:path>
              <a:path fill="darkenLess" w="32024" h="21600">
                <a:moveTo>
                  <a:pt x="32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24" y="20200"/>
                </a:lnTo>
                <a:close/>
              </a:path>
              <a:path fill="lighten" w="32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024" h="21600">
                <a:moveTo>
                  <a:pt x="10485" y="3985"/>
                </a:moveTo>
                <a:lnTo>
                  <a:pt x="17483" y="3985"/>
                </a:lnTo>
                <a:lnTo>
                  <a:pt x="21539" y="7484"/>
                </a:lnTo>
                <a:lnTo>
                  <a:pt x="21539" y="17615"/>
                </a:lnTo>
                <a:lnTo>
                  <a:pt x="10485" y="17615"/>
                </a:lnTo>
                <a:close/>
              </a:path>
              <a:path fill="darken" w="32024" h="21600">
                <a:moveTo>
                  <a:pt x="17483" y="3985"/>
                </a:moveTo>
                <a:lnTo>
                  <a:pt x="21539" y="7484"/>
                </a:lnTo>
                <a:lnTo>
                  <a:pt x="17483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образуем фу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помощью формулы Эйлер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йствительными функц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еменной 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о независим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4211640" y="1557360"/>
                <a:ext cx="1467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2195640" y="2147760"/>
                <a:ext cx="32842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Line 10"/>
          <p:cNvSpPr/>
          <p:nvPr/>
        </p:nvSpPr>
        <p:spPr>
          <a:xfrm>
            <a:off x="2124000" y="306864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1979640" y="2421000"/>
                <a:ext cx="3445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2195640" y="3141720"/>
                <a:ext cx="5472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4"/>
              <p:cNvSpPr txBox="1"/>
              <p:nvPr/>
            </p:nvSpPr>
            <p:spPr>
              <a:xfrm>
                <a:off x="2916360" y="4076640"/>
                <a:ext cx="3948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x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AutoShape 15"/>
          <p:cNvSpPr/>
          <p:nvPr/>
        </p:nvSpPr>
        <p:spPr>
          <a:xfrm>
            <a:off x="7451640" y="465300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616160" y="4653000"/>
            <a:ext cx="1526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месте с друг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С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5786280" y="1785960"/>
                <a:ext cx="2357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x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 Най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С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1. Запишем характеристическое уравнение и решим 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2. Запишем ФСР ЛО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1357200" y="2571840"/>
                <a:ext cx="1785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3929040" y="1857240"/>
                <a:ext cx="1590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2"/>
              <p:cNvSpPr txBox="1"/>
              <p:nvPr/>
            </p:nvSpPr>
            <p:spPr>
              <a:xfrm>
                <a:off x="3786120" y="2571840"/>
                <a:ext cx="3643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3"/>
              <p:cNvSpPr txBox="1"/>
              <p:nvPr/>
            </p:nvSpPr>
            <p:spPr>
              <a:xfrm>
                <a:off x="2643120" y="3500280"/>
                <a:ext cx="32529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AutoShape 17"/>
          <p:cNvSpPr/>
          <p:nvPr/>
        </p:nvSpPr>
        <p:spPr>
          <a:xfrm>
            <a:off x="3286080" y="2786040"/>
            <a:ext cx="432000" cy="71640"/>
          </a:xfrm>
          <a:prstGeom prst="rightArrow">
            <a:avLst>
              <a:gd name="adj1" fmla="val 50000"/>
              <a:gd name="adj2" fmla="val 1507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6"/>
              <p:cNvSpPr txBox="1"/>
              <p:nvPr/>
            </p:nvSpPr>
            <p:spPr>
              <a:xfrm>
                <a:off x="4214880" y="3071880"/>
                <a:ext cx="1625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Стрелка вправо 20"/>
          <p:cNvSpPr/>
          <p:nvPr/>
        </p:nvSpPr>
        <p:spPr>
          <a:xfrm>
            <a:off x="2071800" y="371484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 Най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С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1. Запишем характеристическое уравнение и решим 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2. Запишем ФСР ЛО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0"/>
              <p:cNvSpPr txBox="1"/>
              <p:nvPr/>
            </p:nvSpPr>
            <p:spPr>
              <a:xfrm>
                <a:off x="714240" y="2571840"/>
                <a:ext cx="2654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1"/>
              <p:cNvSpPr txBox="1"/>
              <p:nvPr/>
            </p:nvSpPr>
            <p:spPr>
              <a:xfrm>
                <a:off x="4071960" y="1857240"/>
                <a:ext cx="2214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2"/>
              <p:cNvSpPr txBox="1"/>
              <p:nvPr/>
            </p:nvSpPr>
            <p:spPr>
              <a:xfrm>
                <a:off x="3929040" y="2571840"/>
                <a:ext cx="48578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3"/>
              <p:cNvSpPr txBox="1"/>
              <p:nvPr/>
            </p:nvSpPr>
            <p:spPr>
              <a:xfrm>
                <a:off x="2428920" y="4643280"/>
                <a:ext cx="492768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AutoShape 17"/>
          <p:cNvSpPr/>
          <p:nvPr/>
        </p:nvSpPr>
        <p:spPr>
          <a:xfrm>
            <a:off x="3429000" y="2786040"/>
            <a:ext cx="431640" cy="142920"/>
          </a:xfrm>
          <a:prstGeom prst="rightArrow">
            <a:avLst>
              <a:gd name="adj1" fmla="val 50000"/>
              <a:gd name="adj2" fmla="val 15100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6"/>
              <p:cNvSpPr txBox="1"/>
              <p:nvPr/>
            </p:nvSpPr>
            <p:spPr>
              <a:xfrm>
                <a:off x="4040280" y="4214880"/>
                <a:ext cx="1833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Стрелка вправо 20"/>
          <p:cNvSpPr/>
          <p:nvPr/>
        </p:nvSpPr>
        <p:spPr>
          <a:xfrm>
            <a:off x="1857240" y="500076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970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2. Случай кратных комплексных кор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усть комплексное числ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рень  крат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число                        - тоже корень крат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ФСР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ОДУ им соответствуют              решений ви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4067280" y="1844640"/>
                <a:ext cx="1265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3419640" y="213372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3059280" y="2421000"/>
                <a:ext cx="1152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6516720" y="242100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AutoShape 13"/>
          <p:cNvSpPr/>
          <p:nvPr/>
        </p:nvSpPr>
        <p:spPr>
          <a:xfrm>
            <a:off x="1979640" y="2565360"/>
            <a:ext cx="431640" cy="71640"/>
          </a:xfrm>
          <a:prstGeom prst="rightArrow">
            <a:avLst>
              <a:gd name="adj1" fmla="val 50000"/>
              <a:gd name="adj2" fmla="val 15062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979640" y="2852640"/>
            <a:ext cx="504720" cy="71640"/>
          </a:xfrm>
          <a:prstGeom prst="rightArrow">
            <a:avLst>
              <a:gd name="adj1" fmla="val 50000"/>
              <a:gd name="adj2" fmla="val 1761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5"/>
              <p:cNvSpPr txBox="1"/>
              <p:nvPr/>
            </p:nvSpPr>
            <p:spPr>
              <a:xfrm>
                <a:off x="5580000" y="2637000"/>
                <a:ext cx="459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6"/>
              <p:cNvSpPr txBox="1"/>
              <p:nvPr/>
            </p:nvSpPr>
            <p:spPr>
              <a:xfrm>
                <a:off x="3214800" y="3000240"/>
                <a:ext cx="35766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ро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авнения с постоянными коэффици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йства решений ЛНДУ.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частные решения ЛН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решение ЛОДУ                 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ующего данному ЛН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940360" y="2205000"/>
                <a:ext cx="1152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1547640" y="2205000"/>
                <a:ext cx="1656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AutoShape 6"/>
          <p:cNvSpPr/>
          <p:nvPr/>
        </p:nvSpPr>
        <p:spPr>
          <a:xfrm>
            <a:off x="3635280" y="263700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692360" y="3068640"/>
                <a:ext cx="178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5435640" y="3068640"/>
                <a:ext cx="792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ро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авнения с постоянными коэффици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йства решений ЛНДУ.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частные решения ЛН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решение ЛОДУ                 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ующего данному ЛН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5940360" y="2205000"/>
                <a:ext cx="1152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547640" y="2205000"/>
                <a:ext cx="1656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AutoShape 6"/>
          <p:cNvSpPr/>
          <p:nvPr/>
        </p:nvSpPr>
        <p:spPr>
          <a:xfrm>
            <a:off x="3635280" y="263700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7"/>
              <p:cNvSpPr txBox="1"/>
              <p:nvPr/>
            </p:nvSpPr>
            <p:spPr>
              <a:xfrm>
                <a:off x="1692360" y="3068640"/>
                <a:ext cx="178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8"/>
              <p:cNvSpPr txBox="1"/>
              <p:nvPr/>
            </p:nvSpPr>
            <p:spPr>
              <a:xfrm>
                <a:off x="5435640" y="3068640"/>
                <a:ext cx="792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1239840" y="4703760"/>
                <a:ext cx="12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322280" y="4346640"/>
                <a:ext cx="1222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Стрелка вправо 12"/>
          <p:cNvSpPr/>
          <p:nvPr/>
        </p:nvSpPr>
        <p:spPr>
          <a:xfrm>
            <a:off x="2643120" y="45720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8"/>
              <p:cNvSpPr txBox="1"/>
              <p:nvPr/>
            </p:nvSpPr>
            <p:spPr>
              <a:xfrm>
                <a:off x="3214800" y="4500720"/>
                <a:ext cx="2906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 суперпоз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116000" y="1989000"/>
                <a:ext cx="7416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частн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ени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НДУ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AutoShape 5"/>
          <p:cNvSpPr/>
          <p:nvPr/>
        </p:nvSpPr>
        <p:spPr>
          <a:xfrm>
            <a:off x="4427640" y="2637000"/>
            <a:ext cx="288720" cy="502920"/>
          </a:xfrm>
          <a:prstGeom prst="downArrow">
            <a:avLst>
              <a:gd name="adj1" fmla="val 50000"/>
              <a:gd name="adj2" fmla="val 435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900000" y="3357720"/>
                <a:ext cx="7777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частно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ени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НД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 суперпоз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116000" y="1989000"/>
                <a:ext cx="7416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частн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ени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НДУ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AutoShape 5"/>
          <p:cNvSpPr/>
          <p:nvPr/>
        </p:nvSpPr>
        <p:spPr>
          <a:xfrm>
            <a:off x="4427640" y="2637000"/>
            <a:ext cx="288720" cy="502920"/>
          </a:xfrm>
          <a:prstGeom prst="downArrow">
            <a:avLst>
              <a:gd name="adj1" fmla="val 50000"/>
              <a:gd name="adj2" fmla="val 435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900000" y="3357720"/>
                <a:ext cx="7777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частно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ени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НД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0" name="TextBox 7"/>
          <p:cNvSpPr/>
          <p:nvPr/>
        </p:nvSpPr>
        <p:spPr>
          <a:xfrm>
            <a:off x="1577880" y="478620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643040" y="5214960"/>
                <a:ext cx="6249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br>
              <a:rPr sz="38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386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ро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.У. с постоянными коэффици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                                 - постоянные действитель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функция                    - решение Д.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692360" y="2349360"/>
                <a:ext cx="5256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2268360" y="270828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3348000" y="3357720"/>
                <a:ext cx="1295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2670120" y="3789360"/>
                <a:ext cx="3803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2781360" y="4243320"/>
                <a:ext cx="4300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3116160" y="4813200"/>
                <a:ext cx="3792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14"/>
          <p:cNvSpPr/>
          <p:nvPr/>
        </p:nvSpPr>
        <p:spPr>
          <a:xfrm>
            <a:off x="2050920" y="400536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1908000" y="443700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2124000" y="486900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2556000" y="551664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7ffc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2895480" y="53211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3112920" y="5392800"/>
            <a:ext cx="45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рень алгебраическ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2"/>
              <p:cNvSpPr txBox="1"/>
              <p:nvPr/>
            </p:nvSpPr>
            <p:spPr>
              <a:xfrm>
                <a:off x="3276720" y="537372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ма о структуре общего решения Л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              - частно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НД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яд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                                            - ФСР ЛОДУ                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ующего данному ЛН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1547640" y="2133720"/>
                <a:ext cx="7192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>
                <a:off x="4859280" y="2205000"/>
                <a:ext cx="1152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1619280" y="2565360"/>
                <a:ext cx="2232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5364000" y="2565360"/>
                <a:ext cx="863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8"/>
          <p:cNvSpPr/>
          <p:nvPr/>
        </p:nvSpPr>
        <p:spPr>
          <a:xfrm>
            <a:off x="1187280" y="2060640"/>
            <a:ext cx="6670800" cy="1368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3708360" y="3500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2132280" y="4076640"/>
            <a:ext cx="34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е решение ЛНД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 в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1"/>
              <p:cNvSpPr txBox="1"/>
              <p:nvPr/>
            </p:nvSpPr>
            <p:spPr>
              <a:xfrm>
                <a:off x="2195640" y="4292640"/>
                <a:ext cx="3311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2"/>
              <p:cNvSpPr txBox="1"/>
              <p:nvPr/>
            </p:nvSpPr>
            <p:spPr>
              <a:xfrm>
                <a:off x="1619280" y="5157720"/>
                <a:ext cx="1655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Text Box 13"/>
          <p:cNvSpPr/>
          <p:nvPr/>
        </p:nvSpPr>
        <p:spPr>
          <a:xfrm>
            <a:off x="3209760" y="5229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оизвольные посто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1476360" y="4005360"/>
            <a:ext cx="4680000" cy="1800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ро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авнения с постоянными коэффици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Метод неопределенных коэффици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                             - постоянные коэффициенты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 специальный ви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1187280" y="2349360"/>
                <a:ext cx="5183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1835280" y="2637000"/>
                <a:ext cx="1574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0"/>
              <p:cNvSpPr txBox="1"/>
              <p:nvPr/>
            </p:nvSpPr>
            <p:spPr>
              <a:xfrm>
                <a:off x="1332000" y="3068640"/>
                <a:ext cx="1008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Line 11"/>
          <p:cNvSpPr/>
          <p:nvPr/>
        </p:nvSpPr>
        <p:spPr>
          <a:xfrm flipH="1">
            <a:off x="1908000" y="3141720"/>
            <a:ext cx="14472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2"/>
              <p:cNvSpPr txBox="1"/>
              <p:nvPr/>
            </p:nvSpPr>
            <p:spPr>
              <a:xfrm>
                <a:off x="1258920" y="3716280"/>
                <a:ext cx="417672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μx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ν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ν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ответственн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3"/>
              <p:cNvSpPr txBox="1"/>
              <p:nvPr/>
            </p:nvSpPr>
            <p:spPr>
              <a:xfrm>
                <a:off x="1187280" y="5516640"/>
                <a:ext cx="4176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μx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ν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νx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аст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НД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4"/>
              <p:cNvSpPr txBox="1"/>
              <p:nvPr/>
            </p:nvSpPr>
            <p:spPr>
              <a:xfrm>
                <a:off x="5786280" y="5143680"/>
                <a:ext cx="3143520" cy="13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определенным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ами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ратнос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ν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характеристическ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AutoShape 16"/>
          <p:cNvSpPr/>
          <p:nvPr/>
        </p:nvSpPr>
        <p:spPr>
          <a:xfrm>
            <a:off x="3203640" y="508464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429160" y="5786280"/>
            <a:ext cx="289080" cy="144720"/>
          </a:xfrm>
          <a:prstGeom prst="leftArrow">
            <a:avLst>
              <a:gd name="adj1" fmla="val 50000"/>
              <a:gd name="adj2" fmla="val 499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 Найти общее решение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1. Решим ЛОДУ, соответствующее данному ЛН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2. Найдем частное решение ЛН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3. Запишем общее решение ЛН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2124000" y="4292640"/>
                <a:ext cx="2086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0"/>
              <p:cNvSpPr txBox="1"/>
              <p:nvPr/>
            </p:nvSpPr>
            <p:spPr>
              <a:xfrm>
                <a:off x="1979640" y="2421000"/>
                <a:ext cx="13809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1"/>
              <p:cNvSpPr txBox="1"/>
              <p:nvPr/>
            </p:nvSpPr>
            <p:spPr>
              <a:xfrm>
                <a:off x="5003640" y="1773360"/>
                <a:ext cx="16574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2"/>
              <p:cNvSpPr txBox="1"/>
              <p:nvPr/>
            </p:nvSpPr>
            <p:spPr>
              <a:xfrm>
                <a:off x="4067280" y="2421000"/>
                <a:ext cx="244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3"/>
              <p:cNvSpPr txBox="1"/>
              <p:nvPr/>
            </p:nvSpPr>
            <p:spPr>
              <a:xfrm>
                <a:off x="4140360" y="2852640"/>
                <a:ext cx="3384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ФСР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4"/>
              <p:cNvSpPr txBox="1"/>
              <p:nvPr/>
            </p:nvSpPr>
            <p:spPr>
              <a:xfrm>
                <a:off x="4716360" y="3284640"/>
                <a:ext cx="280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AutoShape 17"/>
          <p:cNvSpPr/>
          <p:nvPr/>
        </p:nvSpPr>
        <p:spPr>
          <a:xfrm>
            <a:off x="3564000" y="2637000"/>
            <a:ext cx="431640" cy="71280"/>
          </a:xfrm>
          <a:prstGeom prst="rightArrow">
            <a:avLst>
              <a:gd name="adj1" fmla="val 50000"/>
              <a:gd name="adj2" fmla="val 15138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8"/>
          <p:cNvSpPr/>
          <p:nvPr/>
        </p:nvSpPr>
        <p:spPr>
          <a:xfrm>
            <a:off x="3708360" y="306864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4067280" y="3500280"/>
            <a:ext cx="431640" cy="71640"/>
          </a:xfrm>
          <a:prstGeom prst="rightArrow">
            <a:avLst>
              <a:gd name="adj1" fmla="val 50000"/>
              <a:gd name="adj2" fmla="val 15062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0"/>
              <p:cNvSpPr txBox="1"/>
              <p:nvPr/>
            </p:nvSpPr>
            <p:spPr>
              <a:xfrm>
                <a:off x="2124000" y="3860640"/>
                <a:ext cx="1008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1"/>
              <p:cNvSpPr txBox="1"/>
              <p:nvPr/>
            </p:nvSpPr>
            <p:spPr>
              <a:xfrm>
                <a:off x="2143080" y="5214960"/>
                <a:ext cx="4643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3"/>
              <p:cNvSpPr txBox="1"/>
              <p:nvPr/>
            </p:nvSpPr>
            <p:spPr>
              <a:xfrm>
                <a:off x="3059280" y="3860640"/>
                <a:ext cx="25844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0" name="AutoShape 25"/>
          <p:cNvSpPr/>
          <p:nvPr/>
        </p:nvSpPr>
        <p:spPr>
          <a:xfrm>
            <a:off x="3132000" y="3933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10800" y="220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012">
                <a:moveTo>
                  <a:pt x="11905" y="21487"/>
                </a:moveTo>
                <a:lnTo>
                  <a:pt x="11905" y="19529"/>
                </a:lnTo>
                <a:cubicBezTo>
                  <a:pt x="11905" y="18702"/>
                  <a:pt x="12236" y="18006"/>
                  <a:pt x="12837" y="18006"/>
                </a:cubicBezTo>
                <a:cubicBezTo>
                  <a:pt x="13968" y="18006"/>
                  <a:pt x="14865" y="16640"/>
                  <a:pt x="14865" y="15055"/>
                </a:cubicBezTo>
                <a:cubicBezTo>
                  <a:pt x="14865" y="12740"/>
                  <a:pt x="13011" y="11000"/>
                  <a:pt x="10800" y="11000"/>
                </a:cubicBezTo>
                <a:cubicBezTo>
                  <a:pt x="8589" y="11000"/>
                  <a:pt x="6918" y="12740"/>
                  <a:pt x="6918" y="15055"/>
                </a:cubicBezTo>
                <a:lnTo>
                  <a:pt x="8772" y="15055"/>
                </a:lnTo>
                <a:cubicBezTo>
                  <a:pt x="8772" y="13915"/>
                  <a:pt x="9695" y="13027"/>
                  <a:pt x="10800" y="13027"/>
                </a:cubicBezTo>
                <a:cubicBezTo>
                  <a:pt x="11905" y="13027"/>
                  <a:pt x="12837" y="13915"/>
                  <a:pt x="12837" y="15055"/>
                </a:cubicBezTo>
                <a:cubicBezTo>
                  <a:pt x="12837" y="15795"/>
                  <a:pt x="12367" y="16526"/>
                  <a:pt x="11905" y="16526"/>
                </a:cubicBezTo>
                <a:cubicBezTo>
                  <a:pt x="10800" y="16526"/>
                  <a:pt x="9695" y="18006"/>
                  <a:pt x="9695" y="19529"/>
                </a:cubicBezTo>
                <a:lnTo>
                  <a:pt x="9695" y="2148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6"/>
              <p:cNvSpPr txBox="1"/>
              <p:nvPr/>
            </p:nvSpPr>
            <p:spPr>
              <a:xfrm>
                <a:off x="6227640" y="3933720"/>
                <a:ext cx="23767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ν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±</m:t>
                    </m:r>
                    <m:r>
                      <m:t xml:space="preserve">i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8"/>
              <p:cNvSpPr txBox="1"/>
              <p:nvPr/>
            </p:nvSpPr>
            <p:spPr>
              <a:xfrm>
                <a:off x="4211640" y="4365720"/>
                <a:ext cx="208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йти общее решение ЛН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1. Решим ЛОДУ, соответствующее данному ЛН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2. Найдем частное решение ЛН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 3. Запишем общее решение ЛН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4356000" y="1484280"/>
                <a:ext cx="172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1908000" y="2133720"/>
                <a:ext cx="4176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"/>
              <p:cNvSpPr txBox="1"/>
              <p:nvPr/>
            </p:nvSpPr>
            <p:spPr>
              <a:xfrm>
                <a:off x="3635280" y="2492280"/>
                <a:ext cx="3178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ФСР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9"/>
              <p:cNvSpPr txBox="1"/>
              <p:nvPr/>
            </p:nvSpPr>
            <p:spPr>
              <a:xfrm>
                <a:off x="4427640" y="2852640"/>
                <a:ext cx="24811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0"/>
              <p:cNvSpPr txBox="1"/>
              <p:nvPr/>
            </p:nvSpPr>
            <p:spPr>
              <a:xfrm>
                <a:off x="1979640" y="3573360"/>
                <a:ext cx="1236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3203640" y="3645000"/>
                <a:ext cx="2627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AutoShape 12"/>
          <p:cNvSpPr/>
          <p:nvPr/>
        </p:nvSpPr>
        <p:spPr>
          <a:xfrm>
            <a:off x="3203640" y="3645000"/>
            <a:ext cx="287280" cy="610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610920"/>
              <a:gd name="textAreaBottom" fmla="*/ 592560 h 610920"/>
            </a:gdLst>
            <a:ahLst/>
            <a:rect l="textAreaLeft" t="textAreaTop" r="textAreaRight" b="textAreaBottom"/>
            <a:pathLst>
              <a:path w="21600" h="45903">
                <a:moveTo>
                  <a:pt x="0" y="0"/>
                </a:moveTo>
                <a:lnTo>
                  <a:pt x="21600" y="0"/>
                </a:lnTo>
                <a:lnTo>
                  <a:pt x="21600" y="45903"/>
                </a:lnTo>
                <a:lnTo>
                  <a:pt x="0" y="45903"/>
                </a:lnTo>
                <a:close/>
              </a:path>
              <a:path fill="lightenLess" w="21600" h="4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903">
                <a:moveTo>
                  <a:pt x="21600" y="0"/>
                </a:moveTo>
                <a:lnTo>
                  <a:pt x="21600" y="45903"/>
                </a:lnTo>
                <a:lnTo>
                  <a:pt x="20200" y="44503"/>
                </a:lnTo>
                <a:lnTo>
                  <a:pt x="20200" y="1400"/>
                </a:lnTo>
                <a:close/>
              </a:path>
              <a:path fill="darkenLess" w="21600" h="45903">
                <a:moveTo>
                  <a:pt x="21600" y="45903"/>
                </a:moveTo>
                <a:lnTo>
                  <a:pt x="0" y="45903"/>
                </a:lnTo>
                <a:lnTo>
                  <a:pt x="1400" y="44503"/>
                </a:lnTo>
                <a:lnTo>
                  <a:pt x="20200" y="44503"/>
                </a:lnTo>
                <a:close/>
              </a:path>
              <a:path fill="lighten" w="21600" h="45903">
                <a:moveTo>
                  <a:pt x="0" y="4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44503"/>
                </a:lnTo>
                <a:close/>
              </a:path>
              <a:path fill="darken" w="21600" h="45903">
                <a:moveTo>
                  <a:pt x="10800" y="269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45903">
                <a:moveTo>
                  <a:pt x="11905" y="26433"/>
                </a:moveTo>
                <a:lnTo>
                  <a:pt x="11905" y="24475"/>
                </a:lnTo>
                <a:cubicBezTo>
                  <a:pt x="11905" y="23648"/>
                  <a:pt x="12236" y="22952"/>
                  <a:pt x="12837" y="22952"/>
                </a:cubicBezTo>
                <a:cubicBezTo>
                  <a:pt x="13968" y="22952"/>
                  <a:pt x="14865" y="21585"/>
                  <a:pt x="14865" y="20001"/>
                </a:cubicBezTo>
                <a:cubicBezTo>
                  <a:pt x="14865" y="17686"/>
                  <a:pt x="13011" y="15945"/>
                  <a:pt x="10800" y="15945"/>
                </a:cubicBezTo>
                <a:cubicBezTo>
                  <a:pt x="8589" y="15945"/>
                  <a:pt x="6918" y="17686"/>
                  <a:pt x="6918" y="20001"/>
                </a:cubicBezTo>
                <a:lnTo>
                  <a:pt x="8772" y="20001"/>
                </a:lnTo>
                <a:cubicBezTo>
                  <a:pt x="8772" y="18861"/>
                  <a:pt x="9695" y="17973"/>
                  <a:pt x="10800" y="17973"/>
                </a:cubicBezTo>
                <a:cubicBezTo>
                  <a:pt x="11905" y="17973"/>
                  <a:pt x="12837" y="18861"/>
                  <a:pt x="12837" y="20001"/>
                </a:cubicBezTo>
                <a:cubicBezTo>
                  <a:pt x="12837" y="20741"/>
                  <a:pt x="12367" y="21472"/>
                  <a:pt x="11905" y="21472"/>
                </a:cubicBezTo>
                <a:cubicBezTo>
                  <a:pt x="10800" y="21472"/>
                  <a:pt x="9695" y="22952"/>
                  <a:pt x="9695" y="24475"/>
                </a:cubicBezTo>
                <a:lnTo>
                  <a:pt x="9695" y="2643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2268360" y="4653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4"/>
              <p:cNvSpPr txBox="1"/>
              <p:nvPr/>
            </p:nvSpPr>
            <p:spPr>
              <a:xfrm>
                <a:off x="2071800" y="4714920"/>
                <a:ext cx="3429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AutoShape 15"/>
          <p:cNvSpPr/>
          <p:nvPr/>
        </p:nvSpPr>
        <p:spPr>
          <a:xfrm>
            <a:off x="2286000" y="54291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3000240" y="5153040"/>
                <a:ext cx="2214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7"/>
              <p:cNvSpPr txBox="1"/>
              <p:nvPr/>
            </p:nvSpPr>
            <p:spPr>
              <a:xfrm>
                <a:off x="5214960" y="5500800"/>
                <a:ext cx="3255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7" name="AutoShape 18"/>
          <p:cNvSpPr/>
          <p:nvPr/>
        </p:nvSpPr>
        <p:spPr>
          <a:xfrm>
            <a:off x="3203640" y="270828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9"/>
          <p:cNvSpPr/>
          <p:nvPr/>
        </p:nvSpPr>
        <p:spPr>
          <a:xfrm>
            <a:off x="3708360" y="314172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0"/>
              <p:cNvSpPr txBox="1"/>
              <p:nvPr/>
            </p:nvSpPr>
            <p:spPr>
              <a:xfrm>
                <a:off x="6464160" y="3645000"/>
                <a:ext cx="22258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ν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88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нейны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днород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.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Метод 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вариации произвольных постоянных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метод Лагранжа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НДУ   порядка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с непрерывными коэффици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ФСР ЛОДУ,             соответствующего данному ЛН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1476360" y="2637000"/>
                <a:ext cx="1252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1258920" y="3141720"/>
                <a:ext cx="2962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2"/>
              <p:cNvSpPr txBox="1"/>
              <p:nvPr/>
            </p:nvSpPr>
            <p:spPr>
              <a:xfrm>
                <a:off x="1187280" y="4508640"/>
                <a:ext cx="46022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ие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r>
                          <m:t xml:space="preserve"> 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НД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6" name="Rectangle 15"/>
          <p:cNvSpPr/>
          <p:nvPr/>
        </p:nvSpPr>
        <p:spPr>
          <a:xfrm>
            <a:off x="1187280" y="2708280"/>
            <a:ext cx="4537080" cy="129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348000" y="4005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8"/>
              <p:cNvSpPr txBox="1"/>
              <p:nvPr/>
            </p:nvSpPr>
            <p:spPr>
              <a:xfrm>
                <a:off x="6443640" y="3429000"/>
                <a:ext cx="222552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′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′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′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9" name="AutoShape 19"/>
          <p:cNvSpPr/>
          <p:nvPr/>
        </p:nvSpPr>
        <p:spPr>
          <a:xfrm>
            <a:off x="5796000" y="5013360"/>
            <a:ext cx="504720" cy="216000"/>
          </a:xfrm>
          <a:prstGeom prst="leftArrow">
            <a:avLst>
              <a:gd name="adj1" fmla="val 50000"/>
              <a:gd name="adj2" fmla="val 58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ый случа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НДУ второго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СР соответствующего ЛОДУ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692360" y="2133720"/>
                <a:ext cx="3024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5"/>
              <p:cNvSpPr txBox="1"/>
              <p:nvPr/>
            </p:nvSpPr>
            <p:spPr>
              <a:xfrm>
                <a:off x="1908000" y="2657520"/>
                <a:ext cx="15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6"/>
              <p:cNvSpPr txBox="1"/>
              <p:nvPr/>
            </p:nvSpPr>
            <p:spPr>
              <a:xfrm>
                <a:off x="1332000" y="3429000"/>
                <a:ext cx="3240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ие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</m:e>
                      <m:e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аст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НД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5" name="AutoShape 7"/>
          <p:cNvSpPr/>
          <p:nvPr/>
        </p:nvSpPr>
        <p:spPr>
          <a:xfrm>
            <a:off x="4788000" y="386064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5724360" y="3573360"/>
                <a:ext cx="26654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ДУ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е решение Л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ое решение ЛН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д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е решение ЛНДУ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1403280" y="1628640"/>
                <a:ext cx="216072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5640" y="2724120"/>
                <a:ext cx="18000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6"/>
              <p:cNvSpPr txBox="1"/>
              <p:nvPr/>
            </p:nvSpPr>
            <p:spPr>
              <a:xfrm>
                <a:off x="5076720" y="2565360"/>
                <a:ext cx="1943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3851280" y="2997360"/>
                <a:ext cx="216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3924360" y="3500280"/>
                <a:ext cx="30240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340000" y="3933720"/>
                <a:ext cx="16556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AutoShape 10"/>
          <p:cNvSpPr/>
          <p:nvPr/>
        </p:nvSpPr>
        <p:spPr>
          <a:xfrm>
            <a:off x="4140360" y="2852640"/>
            <a:ext cx="287280" cy="14472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684360" y="4221000"/>
                <a:ext cx="316692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AutoShape 12"/>
          <p:cNvSpPr/>
          <p:nvPr/>
        </p:nvSpPr>
        <p:spPr>
          <a:xfrm>
            <a:off x="3995640" y="479736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3"/>
              <p:cNvSpPr txBox="1"/>
              <p:nvPr/>
            </p:nvSpPr>
            <p:spPr>
              <a:xfrm>
                <a:off x="4572000" y="4365720"/>
                <a:ext cx="1058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AutoShape 14"/>
          <p:cNvSpPr/>
          <p:nvPr/>
        </p:nvSpPr>
        <p:spPr>
          <a:xfrm>
            <a:off x="5724360" y="479736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5"/>
              <p:cNvSpPr txBox="1"/>
              <p:nvPr/>
            </p:nvSpPr>
            <p:spPr>
              <a:xfrm>
                <a:off x="6411960" y="4433760"/>
                <a:ext cx="1270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6"/>
              <p:cNvSpPr txBox="1"/>
              <p:nvPr/>
            </p:nvSpPr>
            <p:spPr>
              <a:xfrm>
                <a:off x="3924360" y="5516640"/>
                <a:ext cx="4968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2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61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гебраическое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ующее данному ЛО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истическим уравнени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тное утвержд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     - корень характеристического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функция                       -частное решение Л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мечание.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лгебраическое уравнение степен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 действительными коэффициентам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меет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1380960" y="2205000"/>
                <a:ext cx="3453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1979640" y="4221000"/>
                <a:ext cx="315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2916360" y="4437000"/>
                <a:ext cx="1224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 решений Л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Линей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ш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ь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1332000" y="2133720"/>
                <a:ext cx="3024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AutoShape 5"/>
          <p:cNvSpPr/>
          <p:nvPr/>
        </p:nvSpPr>
        <p:spPr>
          <a:xfrm>
            <a:off x="2987640" y="26370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332000" y="2997360"/>
                <a:ext cx="4176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403280" y="3500280"/>
                <a:ext cx="511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оизвольн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остоянны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6156360" y="2133720"/>
                <a:ext cx="93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Критерий линейной независимости системы решений Л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частные решения ЛОДУ поряд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 фун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о независимая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2071800" y="2143080"/>
                <a:ext cx="2814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5"/>
          <p:cNvSpPr/>
          <p:nvPr/>
        </p:nvSpPr>
        <p:spPr>
          <a:xfrm>
            <a:off x="1214280" y="3357720"/>
            <a:ext cx="4286520" cy="85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286080" y="4286160"/>
            <a:ext cx="289080" cy="576360"/>
          </a:xfrm>
          <a:prstGeom prst="upDownArrow">
            <a:avLst>
              <a:gd name="adj1" fmla="val 50000"/>
              <a:gd name="adj2" fmla="val 396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1571760" y="4929120"/>
                <a:ext cx="35528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3214800" y="3429000"/>
                <a:ext cx="22320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786120" y="3714840"/>
                <a:ext cx="638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286240" y="2500200"/>
                <a:ext cx="638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Ф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даментальной системой решений (ФС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Д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ряд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система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линейно независимых решений Л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979640" y="2205000"/>
                <a:ext cx="936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3357720" y="2500200"/>
                <a:ext cx="2232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ма о структуре общего решения Л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при                     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у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С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ДУ поряд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общее решение ЛОДУ поря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 в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оизвольными постоя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2357280" y="2214720"/>
                <a:ext cx="10083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4357800" y="2214720"/>
                <a:ext cx="2232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1285920" y="3429000"/>
                <a:ext cx="4319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4429080" y="3929040"/>
                <a:ext cx="1368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С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луча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йствительных кор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258920" y="2143080"/>
                <a:ext cx="5157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рн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характеристическ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я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ействитель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личные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785880" y="3214800"/>
                <a:ext cx="6027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ФС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ОД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орядка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10"/>
          <p:cNvSpPr/>
          <p:nvPr/>
        </p:nvSpPr>
        <p:spPr>
          <a:xfrm>
            <a:off x="3708360" y="292428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180800" y="3832200"/>
            <a:ext cx="2723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2"/>
              <p:cNvSpPr txBox="1"/>
              <p:nvPr/>
            </p:nvSpPr>
            <p:spPr>
              <a:xfrm>
                <a:off x="1500120" y="4714920"/>
                <a:ext cx="42498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AutoShape 13"/>
          <p:cNvSpPr/>
          <p:nvPr/>
        </p:nvSpPr>
        <p:spPr>
          <a:xfrm>
            <a:off x="5857920" y="514368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4"/>
              <p:cNvSpPr txBox="1"/>
              <p:nvPr/>
            </p:nvSpPr>
            <p:spPr>
              <a:xfrm>
                <a:off x="6286680" y="4857840"/>
                <a:ext cx="25905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инейн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зависим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5"/>
              <p:cNvSpPr txBox="1"/>
              <p:nvPr/>
            </p:nvSpPr>
            <p:spPr>
              <a:xfrm>
                <a:off x="1571760" y="4214880"/>
                <a:ext cx="649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в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астны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ени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ОД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орядка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Box 11"/>
          <p:cNvSpPr/>
          <p:nvPr/>
        </p:nvSpPr>
        <p:spPr>
          <a:xfrm>
            <a:off x="7078680" y="571500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уют Ф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2"/>
          <p:cNvSpPr/>
          <p:nvPr/>
        </p:nvSpPr>
        <p:spPr>
          <a:xfrm>
            <a:off x="6429240" y="58579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Линейные уравнения с постоянными коэффициента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04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лучай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атных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ействительных кор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усть действительное число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рень уравн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рат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ФСР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ЛОДУ ему соответствуют      решений ви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4427640" y="1844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2700360" y="2133720"/>
                <a:ext cx="657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5796000" y="2421000"/>
                <a:ext cx="263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AutoShape 11"/>
          <p:cNvSpPr/>
          <p:nvPr/>
        </p:nvSpPr>
        <p:spPr>
          <a:xfrm>
            <a:off x="205092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2843280" y="2637000"/>
                <a:ext cx="3097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5:35:41Z</dcterms:created>
  <dc:creator>Asus</dc:creator>
  <dc:description/>
  <dc:language>en-US</dc:language>
  <cp:lastModifiedBy>Admin</cp:lastModifiedBy>
  <dcterms:modified xsi:type="dcterms:W3CDTF">2011-05-04T18:50:21Z</dcterms:modified>
  <cp:revision>79</cp:revision>
  <dc:subject/>
  <dc:title>Слайд 1</dc:title>
</cp:coreProperties>
</file>