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9895-8145-4236-92EB-AB423759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7BF1-82FC-4503-BDF0-CF5EA9CE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BF85-D160-4610-9D25-82193FB21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38D0-CAE0-4AD5-8EB4-810C39C7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D558-2DA2-4958-82A6-23FEC9758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3D74-E8A3-4973-9FB6-29E245E6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47A2-C08E-4F27-8EBD-F1A21223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117E-58CD-45F4-BD4A-E805D077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8A52-4F9F-48B1-9E92-CCFD35DF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600E-90D1-4365-8A1C-FC454572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C896-48F1-4040-B4F4-F14ACC30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1671-5EDA-4AF8-A00A-3B2C0241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D379-86F0-4148-8517-68249056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AE30-1B53-4B44-8350-F32772C4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3D10-1678-4485-9BDB-F4D697FB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3BBE-E11E-40AE-BE01-988FAFFB9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860F-C2D9-4240-8790-8FD9D95F4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C9AB-4206-455F-A627-632A8B9E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9DC0-90E7-4A11-A60B-4E124DA0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FF60-08F1-432E-A3F5-5ABB3BBF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247A-FF1D-422A-A260-25DA1365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5DBF-F404-4087-9BB7-E7C7FA0F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1E6A-C356-4F3A-A2FA-87531C5B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4E5B-9D43-4452-BF7A-8F672173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A7BC-BEBF-4ACF-9CC6-145B0DE9C80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08D2-6C3F-491C-BBE7-29A71848C3F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Дифференциальные уравн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Линейные дифференциальные уравнения высшего поряд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00"/>
                </a:solidFill>
                <a:latin typeface="Garamond"/>
              </a:rPr>
              <a:t>Дифференциальные уравнения</a:t>
            </a:r>
            <a:endParaRPr b="0" lang="en-US" sz="1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имер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 Система функц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инейно независимая в любом интервал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смотрим линейную комбинацию этих функций и предположим, что она тождественно равна нулю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гда и производные от нее должны равняться нулю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сюда следуе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1071720" y="2000160"/>
                <a:ext cx="31701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8"/>
              <p:cNvSpPr txBox="1"/>
              <p:nvPr/>
            </p:nvSpPr>
            <p:spPr>
              <a:xfrm>
                <a:off x="4214880" y="2260440"/>
                <a:ext cx="57132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9"/>
              <p:cNvSpPr txBox="1"/>
              <p:nvPr/>
            </p:nvSpPr>
            <p:spPr>
              <a:xfrm>
                <a:off x="1357200" y="3071880"/>
                <a:ext cx="26434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≡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0"/>
              <p:cNvSpPr txBox="1"/>
              <p:nvPr/>
            </p:nvSpPr>
            <p:spPr>
              <a:xfrm>
                <a:off x="1643040" y="4000680"/>
                <a:ext cx="151128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≡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≡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11"/>
              <p:cNvSpPr txBox="1"/>
              <p:nvPr/>
            </p:nvSpPr>
            <p:spPr>
              <a:xfrm>
                <a:off x="1643040" y="5072040"/>
                <a:ext cx="20034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00"/>
                </a:solidFill>
                <a:latin typeface="Garamond"/>
              </a:rPr>
              <a:t>Дифференциальные уравнения</a:t>
            </a:r>
            <a:endParaRPr b="0" lang="en-US" sz="1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имер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785880" y="1928880"/>
            <a:ext cx="328608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 Система функц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инейно независимая в любом интервале            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В общем случае система функц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линейно независимая при всех  х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13"/>
              <p:cNvSpPr txBox="1"/>
              <p:nvPr/>
            </p:nvSpPr>
            <p:spPr>
              <a:xfrm>
                <a:off x="1714680" y="2643120"/>
                <a:ext cx="6555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4"/>
              <p:cNvSpPr txBox="1"/>
              <p:nvPr/>
            </p:nvSpPr>
            <p:spPr>
              <a:xfrm>
                <a:off x="1071720" y="2071800"/>
                <a:ext cx="31431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rx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≠</m:t>
                    </m:r>
                    <m:r>
                      <m:t xml:space="preserve">k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1"/>
              <p:cNvSpPr txBox="1"/>
              <p:nvPr/>
            </p:nvSpPr>
            <p:spPr>
              <a:xfrm>
                <a:off x="857160" y="2857680"/>
                <a:ext cx="401328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4"/>
              <p:cNvSpPr txBox="1"/>
              <p:nvPr/>
            </p:nvSpPr>
            <p:spPr>
              <a:xfrm>
                <a:off x="785880" y="4143240"/>
                <a:ext cx="68151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00"/>
                </a:solidFill>
                <a:latin typeface="Garamond"/>
              </a:rPr>
              <a:t>Дифференциальные уравнения</a:t>
            </a:r>
            <a:endParaRPr b="0" lang="en-US" sz="1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имер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785880" y="1928880"/>
            <a:ext cx="3286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. Система функц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инейно зависимая в любом интервале           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ожи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составим линейную комбинацию функц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этими коэффициент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3"/>
              <p:cNvSpPr txBox="1"/>
              <p:nvPr/>
            </p:nvSpPr>
            <p:spPr>
              <a:xfrm>
                <a:off x="1714680" y="2643120"/>
                <a:ext cx="57132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14"/>
              <p:cNvSpPr txBox="1"/>
              <p:nvPr/>
            </p:nvSpPr>
            <p:spPr>
              <a:xfrm>
                <a:off x="1071720" y="2071800"/>
                <a:ext cx="38574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15"/>
              <p:cNvSpPr txBox="1"/>
              <p:nvPr/>
            </p:nvSpPr>
            <p:spPr>
              <a:xfrm>
                <a:off x="1428840" y="3071880"/>
                <a:ext cx="22860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17"/>
              <p:cNvSpPr txBox="1"/>
              <p:nvPr/>
            </p:nvSpPr>
            <p:spPr>
              <a:xfrm>
                <a:off x="1000080" y="3929040"/>
                <a:ext cx="27860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≡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00"/>
                </a:solidFill>
                <a:latin typeface="Garamond"/>
              </a:rPr>
              <a:t>Дифференциальные уравнения</a:t>
            </a:r>
            <a:endParaRPr b="0" lang="en-US" sz="1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19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пределитель Вронского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усть функ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меют в интервале             непрерывные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изводные до порядка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-1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ключительн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пределени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пределителем Вронско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системы функц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зывается определите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2143080" y="2000160"/>
                <a:ext cx="17146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6"/>
              <p:cNvSpPr txBox="1"/>
              <p:nvPr/>
            </p:nvSpPr>
            <p:spPr>
              <a:xfrm>
                <a:off x="2428920" y="2286000"/>
                <a:ext cx="6541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8"/>
              <p:cNvSpPr txBox="1"/>
              <p:nvPr/>
            </p:nvSpPr>
            <p:spPr>
              <a:xfrm>
                <a:off x="1000080" y="3429000"/>
                <a:ext cx="892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9"/>
              <p:cNvSpPr txBox="1"/>
              <p:nvPr/>
            </p:nvSpPr>
            <p:spPr>
              <a:xfrm>
                <a:off x="1000080" y="3786120"/>
                <a:ext cx="377820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…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…</m:t>
                            </m:r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⋯</m:t>
                            </m:r>
                            <m:r>
                              <m:t xml:space="preserve"> </m:t>
                            </m:r>
                            <m:r>
                              <m:t xml:space="preserve">⋯</m:t>
                            </m:r>
                            <m:r>
                              <m:t xml:space="preserve"> </m:t>
                            </m:r>
                            <m:r>
                              <m:t xml:space="preserve">⋯</m:t>
                            </m:r>
                            <m:r>
                              <m:t xml:space="preserve"> </m:t>
                            </m:r>
                            <m:r>
                              <m:t xml:space="preserve">⋯</m:t>
                            </m:r>
                            <m:r>
                              <m:t xml:space="preserve"> </m:t>
                            </m:r>
                            <m:r>
                              <m:t xml:space="preserve">⋯</m:t>
                            </m:r>
                            <m:r>
                              <m:t xml:space="preserve"> </m:t>
                            </m:r>
                            <m:r>
                              <m:t xml:space="preserve">⋯</m:t>
                            </m:r>
                            <m:r>
                              <m:t xml:space="preserve"> </m:t>
                            </m:r>
                            <m:r>
                              <m:t xml:space="preserve">⋯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00"/>
                </a:solidFill>
                <a:latin typeface="Garamond"/>
              </a:rPr>
              <a:t>Дифференциальные уравнения</a:t>
            </a:r>
            <a:endParaRPr b="0" lang="en-US" sz="1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28760" y="1642680"/>
            <a:ext cx="6286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пределитель Вронского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Теорема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необходимое условие линейной зависимости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усть  система функций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инейно зависима в         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гда                             при все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казательство ( при к=2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0"/>
              <p:cNvSpPr txBox="1"/>
              <p:nvPr/>
            </p:nvSpPr>
            <p:spPr>
              <a:xfrm>
                <a:off x="3071880" y="2428920"/>
                <a:ext cx="175428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11"/>
              <p:cNvSpPr txBox="1"/>
              <p:nvPr/>
            </p:nvSpPr>
            <p:spPr>
              <a:xfrm>
                <a:off x="2428920" y="2714760"/>
                <a:ext cx="57132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12"/>
              <p:cNvSpPr txBox="1"/>
              <p:nvPr/>
            </p:nvSpPr>
            <p:spPr>
              <a:xfrm>
                <a:off x="3643200" y="2928960"/>
                <a:ext cx="9288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13"/>
              <p:cNvSpPr txBox="1"/>
              <p:nvPr/>
            </p:nvSpPr>
            <p:spPr>
              <a:xfrm>
                <a:off x="1500120" y="2928960"/>
                <a:ext cx="142884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14"/>
              <p:cNvSpPr txBox="1"/>
              <p:nvPr/>
            </p:nvSpPr>
            <p:spPr>
              <a:xfrm>
                <a:off x="1000080" y="3740040"/>
                <a:ext cx="39290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∃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хот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бы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дн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авн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улю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5"/>
              <p:cNvSpPr txBox="1"/>
              <p:nvPr/>
            </p:nvSpPr>
            <p:spPr>
              <a:xfrm>
                <a:off x="1071720" y="4429080"/>
                <a:ext cx="27860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усть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апример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8" name="Line 16"/>
          <p:cNvSpPr/>
          <p:nvPr/>
        </p:nvSpPr>
        <p:spPr>
          <a:xfrm>
            <a:off x="4429080" y="464328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Line 17"/>
          <p:cNvSpPr/>
          <p:nvPr/>
        </p:nvSpPr>
        <p:spPr>
          <a:xfrm>
            <a:off x="4500720" y="464328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AutoShape 18"/>
          <p:cNvSpPr/>
          <p:nvPr/>
        </p:nvSpPr>
        <p:spPr>
          <a:xfrm>
            <a:off x="4714920" y="4857840"/>
            <a:ext cx="431640" cy="214200"/>
          </a:xfrm>
          <a:prstGeom prst="rightArrow">
            <a:avLst>
              <a:gd name="adj1" fmla="val 50000"/>
              <a:gd name="adj2" fmla="val 7473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19"/>
              <p:cNvSpPr txBox="1"/>
              <p:nvPr/>
            </p:nvSpPr>
            <p:spPr>
              <a:xfrm>
                <a:off x="5357880" y="4500720"/>
                <a:ext cx="296064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00"/>
                </a:solidFill>
                <a:latin typeface="Garamond"/>
              </a:rPr>
              <a:t>Дифференциальные уравнения</a:t>
            </a:r>
            <a:endParaRPr b="0" lang="en-US" sz="1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757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пределение  1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Линейное дифференциальное уравн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-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о порядк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имеет ви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д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4"/>
              <p:cNvSpPr txBox="1"/>
              <p:nvPr/>
            </p:nvSpPr>
            <p:spPr>
              <a:xfrm>
                <a:off x="857160" y="2357280"/>
                <a:ext cx="5194440" cy="4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ЛД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6"/>
              <p:cNvSpPr txBox="1"/>
              <p:nvPr/>
            </p:nvSpPr>
            <p:spPr>
              <a:xfrm>
                <a:off x="1285920" y="2914560"/>
                <a:ext cx="39290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эффициенты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ава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асть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уравнения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00"/>
                </a:solidFill>
                <a:latin typeface="Garamond"/>
              </a:rPr>
              <a:t>Дифференциальные уравнения</a:t>
            </a:r>
            <a:endParaRPr b="0" lang="en-US" sz="1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757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пределение  1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Линейное дифференциальное уравн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-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о порядк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имеет ви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д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пределение  2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инейное дифференциальное уравнение называ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днородны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ес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называ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неоднородны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ес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2"/>
              <p:cNvSpPr txBox="1"/>
              <p:nvPr/>
            </p:nvSpPr>
            <p:spPr>
              <a:xfrm>
                <a:off x="857160" y="2357280"/>
                <a:ext cx="5194440" cy="4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ЛД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3"/>
              <p:cNvSpPr txBox="1"/>
              <p:nvPr/>
            </p:nvSpPr>
            <p:spPr>
              <a:xfrm>
                <a:off x="1214280" y="2928960"/>
                <a:ext cx="33642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эффициенты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ава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асть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уравнения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3500280" y="4357800"/>
                <a:ext cx="207180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0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ЛОДУ</m:t>
                        </m:r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5"/>
              <p:cNvSpPr txBox="1"/>
              <p:nvPr/>
            </p:nvSpPr>
            <p:spPr>
              <a:xfrm>
                <a:off x="3429000" y="4857840"/>
                <a:ext cx="217332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0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ЛНДУ</m:t>
                        </m:r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Line 10"/>
          <p:cNvSpPr/>
          <p:nvPr/>
        </p:nvSpPr>
        <p:spPr>
          <a:xfrm flipH="1">
            <a:off x="4000680" y="5000760"/>
            <a:ext cx="14256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00"/>
                </a:solidFill>
                <a:latin typeface="Garamond"/>
              </a:rPr>
              <a:t>Дифференциальные уравнения</a:t>
            </a:r>
            <a:endParaRPr b="0" lang="en-US" sz="1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пределение  3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инейным дифференциальным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ператором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-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о порядк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зывается выражение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6"/>
              <p:cNvSpPr txBox="1"/>
              <p:nvPr/>
            </p:nvSpPr>
            <p:spPr>
              <a:xfrm>
                <a:off x="928800" y="2928960"/>
                <a:ext cx="350028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y</m:t>
                    </m:r>
                    <m:r>
                      <m:t xml:space="preserve">≡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Text Box 12"/>
          <p:cNvSpPr/>
          <p:nvPr/>
        </p:nvSpPr>
        <p:spPr>
          <a:xfrm>
            <a:off x="5286240" y="292896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ЛОДУ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ЛНДУ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7"/>
              <p:cNvSpPr txBox="1"/>
              <p:nvPr/>
            </p:nvSpPr>
            <p:spPr>
              <a:xfrm>
                <a:off x="6143760" y="2857680"/>
                <a:ext cx="101124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y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Line 14"/>
          <p:cNvSpPr/>
          <p:nvPr/>
        </p:nvSpPr>
        <p:spPr>
          <a:xfrm>
            <a:off x="4643280" y="28576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4714920" y="28576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AutoShape 16"/>
          <p:cNvSpPr/>
          <p:nvPr/>
        </p:nvSpPr>
        <p:spPr>
          <a:xfrm>
            <a:off x="4786200" y="3071880"/>
            <a:ext cx="430200" cy="204840"/>
          </a:xfrm>
          <a:prstGeom prst="rightArrow">
            <a:avLst>
              <a:gd name="adj1" fmla="val 50000"/>
              <a:gd name="adj2" fmla="val 9834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00"/>
                </a:solidFill>
                <a:latin typeface="Garamond"/>
              </a:rPr>
              <a:t>Дифференциальные уравнения</a:t>
            </a:r>
            <a:endParaRPr b="0" lang="en-US" sz="1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29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пределение  4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бщим решением ЛДУ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-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о порядк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зываетс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ункция                                      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висящая от х и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извольных постоянных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любое решение может быть получено из нее при некоторых конкретных значениях постоян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шение, полученное из общего решения при конкретных значениях постоянных,  называ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частным решение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1643040" y="2214720"/>
                <a:ext cx="17146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00"/>
                </a:solidFill>
                <a:latin typeface="Garamond"/>
              </a:rPr>
              <a:t>Дифференциальные уравнения</a:t>
            </a:r>
            <a:endParaRPr b="0" lang="en-US" sz="1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Задача Кош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йти решени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ЛДУ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-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о поряд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довлетворяюще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начальным условия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3"/>
              <p:cNvSpPr txBox="1"/>
              <p:nvPr/>
            </p:nvSpPr>
            <p:spPr>
              <a:xfrm>
                <a:off x="785880" y="2286000"/>
                <a:ext cx="39877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714240" y="2928960"/>
                <a:ext cx="44402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" name="Text Box 9"/>
          <p:cNvSpPr/>
          <p:nvPr/>
        </p:nvSpPr>
        <p:spPr>
          <a:xfrm>
            <a:off x="5167440" y="3857760"/>
            <a:ext cx="337320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Теорема (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!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усть в интервале             коэффициент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правая часть     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ЛДУ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-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о порядк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прерывные функц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гда при любом                   найдетс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которая окрестность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кая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в этой окрестности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единственное решени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задачи Кош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5"/>
              <p:cNvSpPr txBox="1"/>
              <p:nvPr/>
            </p:nvSpPr>
            <p:spPr>
              <a:xfrm>
                <a:off x="6000840" y="3786120"/>
                <a:ext cx="3571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6"/>
              <p:cNvSpPr txBox="1"/>
              <p:nvPr/>
            </p:nvSpPr>
            <p:spPr>
              <a:xfrm>
                <a:off x="6500880" y="4071960"/>
                <a:ext cx="5950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7"/>
              <p:cNvSpPr txBox="1"/>
              <p:nvPr/>
            </p:nvSpPr>
            <p:spPr>
              <a:xfrm>
                <a:off x="5072040" y="4357800"/>
                <a:ext cx="183672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8"/>
              <p:cNvSpPr txBox="1"/>
              <p:nvPr/>
            </p:nvSpPr>
            <p:spPr>
              <a:xfrm>
                <a:off x="6429240" y="4643280"/>
                <a:ext cx="53820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9"/>
              <p:cNvSpPr txBox="1"/>
              <p:nvPr/>
            </p:nvSpPr>
            <p:spPr>
              <a:xfrm>
                <a:off x="6357960" y="5000760"/>
                <a:ext cx="10000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0"/>
              <p:cNvSpPr txBox="1"/>
              <p:nvPr/>
            </p:nvSpPr>
            <p:spPr>
              <a:xfrm>
                <a:off x="6929280" y="5286240"/>
                <a:ext cx="123048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AutoShape 17"/>
          <p:cNvSpPr/>
          <p:nvPr/>
        </p:nvSpPr>
        <p:spPr>
          <a:xfrm>
            <a:off x="3429000" y="4786200"/>
            <a:ext cx="863640" cy="142920"/>
          </a:xfrm>
          <a:prstGeom prst="rightArrow">
            <a:avLst>
              <a:gd name="adj1" fmla="val 50000"/>
              <a:gd name="adj2" fmla="val 15107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00"/>
                </a:solidFill>
                <a:latin typeface="Garamond"/>
              </a:rPr>
              <a:t>Дифференциальные уравнения</a:t>
            </a:r>
            <a:endParaRPr b="0" lang="en-US" sz="1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Линейно зависимые и линейно независимые системы функц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пределение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стема функц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зыва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линейно зависимой в интервал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найдутся такие коэффициен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реди них есть хотя бы один, отличный от нул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а линейная комбинация функц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тождественно равна нулю в интервал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7"/>
              <p:cNvSpPr txBox="1"/>
              <p:nvPr/>
            </p:nvSpPr>
            <p:spPr>
              <a:xfrm>
                <a:off x="2286000" y="2571840"/>
                <a:ext cx="1495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8"/>
              <p:cNvSpPr txBox="1"/>
              <p:nvPr/>
            </p:nvSpPr>
            <p:spPr>
              <a:xfrm>
                <a:off x="1857240" y="3000240"/>
                <a:ext cx="65592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9"/>
              <p:cNvSpPr txBox="1"/>
              <p:nvPr/>
            </p:nvSpPr>
            <p:spPr>
              <a:xfrm>
                <a:off x="4429080" y="4214880"/>
                <a:ext cx="6555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10"/>
              <p:cNvSpPr txBox="1"/>
              <p:nvPr/>
            </p:nvSpPr>
            <p:spPr>
              <a:xfrm>
                <a:off x="3786120" y="3214800"/>
                <a:ext cx="10717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11"/>
              <p:cNvSpPr txBox="1"/>
              <p:nvPr/>
            </p:nvSpPr>
            <p:spPr>
              <a:xfrm>
                <a:off x="2643120" y="3786120"/>
                <a:ext cx="24750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00"/>
                </a:solidFill>
                <a:latin typeface="Garamond"/>
              </a:rPr>
              <a:t>Дифференциальные уравнения</a:t>
            </a:r>
            <a:endParaRPr b="0" lang="en-US" sz="1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Линейно зависимые и линейно независимые системы функц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астный случа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стема двух функц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удет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линейно зависимой в интервал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гда и только тогда,  когда их отнош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казательство.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Необходимость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линейно зависи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остаточность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7"/>
              <p:cNvSpPr txBox="1"/>
              <p:nvPr/>
            </p:nvSpPr>
            <p:spPr>
              <a:xfrm>
                <a:off x="2786040" y="2571840"/>
                <a:ext cx="12556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8"/>
              <p:cNvSpPr txBox="1"/>
              <p:nvPr/>
            </p:nvSpPr>
            <p:spPr>
              <a:xfrm>
                <a:off x="4286160" y="2786040"/>
                <a:ext cx="6555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11"/>
              <p:cNvSpPr txBox="1"/>
              <p:nvPr/>
            </p:nvSpPr>
            <p:spPr>
              <a:xfrm>
                <a:off x="1357200" y="3357720"/>
                <a:ext cx="27846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7"/>
              <p:cNvSpPr txBox="1"/>
              <p:nvPr/>
            </p:nvSpPr>
            <p:spPr>
              <a:xfrm>
                <a:off x="714240" y="4357800"/>
                <a:ext cx="1000440" cy="27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8"/>
              <p:cNvSpPr txBox="1"/>
              <p:nvPr/>
            </p:nvSpPr>
            <p:spPr>
              <a:xfrm>
                <a:off x="3714840" y="4357800"/>
                <a:ext cx="257184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Стрелка вправо 10"/>
          <p:cNvSpPr/>
          <p:nvPr/>
        </p:nvSpPr>
        <p:spPr>
          <a:xfrm>
            <a:off x="3429000" y="45007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9"/>
              <p:cNvSpPr txBox="1"/>
              <p:nvPr/>
            </p:nvSpPr>
            <p:spPr>
              <a:xfrm>
                <a:off x="6905520" y="4214880"/>
                <a:ext cx="114156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Стрелка вправо 12"/>
          <p:cNvSpPr/>
          <p:nvPr/>
        </p:nvSpPr>
        <p:spPr>
          <a:xfrm>
            <a:off x="6429240" y="4429080"/>
            <a:ext cx="214560" cy="7164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0"/>
              <p:cNvSpPr txBox="1"/>
              <p:nvPr/>
            </p:nvSpPr>
            <p:spPr>
              <a:xfrm>
                <a:off x="857160" y="4857840"/>
                <a:ext cx="12812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C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Стрелка вправо 14"/>
          <p:cNvSpPr/>
          <p:nvPr/>
        </p:nvSpPr>
        <p:spPr>
          <a:xfrm>
            <a:off x="2286000" y="5072040"/>
            <a:ext cx="214200" cy="71640"/>
          </a:xfrm>
          <a:prstGeom prst="rightArrow">
            <a:avLst>
              <a:gd name="adj1" fmla="val 50000"/>
              <a:gd name="adj2" fmla="val 49832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11"/>
              <p:cNvSpPr txBox="1"/>
              <p:nvPr/>
            </p:nvSpPr>
            <p:spPr>
              <a:xfrm>
                <a:off x="2571840" y="4929120"/>
                <a:ext cx="164304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00"/>
                </a:solidFill>
                <a:latin typeface="Garamond"/>
              </a:rPr>
              <a:t>Дифференциальные уравнения</a:t>
            </a:r>
            <a:endParaRPr b="0" lang="en-US" sz="1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Линейно зависимые и линейно независимые системы функц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пределение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стема функций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зыва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линейно независимой в интервал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линейная комбинация этих функц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тождественно равна нулю при все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ишь в том случае, когда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се коэффициент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авны нулю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2286000" y="2500200"/>
                <a:ext cx="16574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8"/>
              <p:cNvSpPr txBox="1"/>
              <p:nvPr/>
            </p:nvSpPr>
            <p:spPr>
              <a:xfrm>
                <a:off x="1714680" y="3357720"/>
                <a:ext cx="23270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9"/>
              <p:cNvSpPr txBox="1"/>
              <p:nvPr/>
            </p:nvSpPr>
            <p:spPr>
              <a:xfrm>
                <a:off x="4143240" y="3571920"/>
                <a:ext cx="10130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0"/>
              <p:cNvSpPr txBox="1"/>
              <p:nvPr/>
            </p:nvSpPr>
            <p:spPr>
              <a:xfrm>
                <a:off x="1857240" y="2928960"/>
                <a:ext cx="6559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1"/>
              <p:cNvSpPr txBox="1"/>
              <p:nvPr/>
            </p:nvSpPr>
            <p:spPr>
              <a:xfrm>
                <a:off x="2286000" y="3984480"/>
                <a:ext cx="107172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07:20:13Z</dcterms:created>
  <dc:creator>Asus</dc:creator>
  <dc:description/>
  <dc:language>en-US</dc:language>
  <cp:lastModifiedBy>Admin</cp:lastModifiedBy>
  <dcterms:modified xsi:type="dcterms:W3CDTF">2011-05-04T18:42:47Z</dcterms:modified>
  <cp:revision>35</cp:revision>
  <dc:subject/>
  <dc:title>Дифференциальные уравнения</dc:title>
</cp:coreProperties>
</file>